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4E8-E4FF-4B24-BD13-9A808B24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1E5-FBA6-4E8E-8D4D-CA595245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BCF-3A28-4A16-9A73-9306A8DC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CAC-5968-44E6-A30A-BEC47474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F9E-C16E-4FAD-B85A-215E15B5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2465-0308-4FF3-A771-2127E430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E51E-DF38-46F3-A3FA-47582C9B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EA9E-6375-4189-A2AB-6E503EF1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A71F-294F-41A2-AFFD-F859758F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3118-9A3B-4C83-A3D2-A910A2D9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61F5-3148-43AA-8575-CCB2288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C06-3CD6-4FDF-8E00-A3DAF70B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613E-4B0E-47A6-B498-BA0B75B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7244-859E-4BDB-87EC-F4D7B8C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6764-673B-4C5D-8404-40B0D63C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390-0DAF-4D26-852D-8FC50CE5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EC5B-836E-4323-9E7C-A7072EC6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EAD-C887-4438-B284-4CCD7279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5C2-2C09-4CB4-AADE-442D3E59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435-A002-47A1-9128-9D1A56E0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52B-B112-4759-9E5E-667BB4F6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360-D6DC-4186-B667-876F9DF3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996-E0AD-4F61-A30E-8523168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C95-289E-4B54-8767-BFD15BF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D5FC-9AAB-4434-AEF6-5EC272D744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A273-27B8-4C07-B210-56F2B3DC8B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Palatino"/>
              </a:rPr>
              <a:t>Objective:  Student will compare and order fractions and decimals.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Palatino"/>
              </a:rPr>
              <a:t>Opener:  Order the following decimals and fractions from least to greatest.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533520" indent="-533520">
              <a:lnSpc>
                <a:spcPct val="6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.84 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8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       .089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89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10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2.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 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7 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.720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Palatino"/>
              </a:rPr>
              <a:t>.722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400" spc="-1" strike="noStrike" u="sng">
                <a:solidFill>
                  <a:srgbClr val="3399ff"/>
                </a:solidFill>
                <a:uFillTx/>
                <a:latin typeface="Palatino"/>
              </a:rPr>
              <a:t>72</a:t>
            </a:r>
            <a:r>
              <a:rPr b="0" lang="en-US" sz="2400" spc="-1" strike="noStrike">
                <a:solidFill>
                  <a:srgbClr val="3399ff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914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  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20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	</a:t>
            </a:r>
            <a:r>
              <a:rPr b="1" lang="en-US" sz="2000" spc="-1" strike="noStrike">
                <a:solidFill>
                  <a:srgbClr val="3399ff"/>
                </a:solidFill>
                <a:latin typeface="Palatino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3" name=""/>
          <p:cNvSpPr/>
          <p:nvPr/>
        </p:nvSpPr>
        <p:spPr>
          <a:xfrm>
            <a:off x="2232000" y="2768760"/>
            <a:ext cx="250920" cy="285480"/>
          </a:xfrm>
          <a:custGeom>
            <a:avLst/>
            <a:gdLst/>
            <a:ahLst/>
            <a:rect l="l" t="t" r="r" b="b"/>
            <a:pathLst>
              <a:path w="696" h="795">
                <a:moveTo>
                  <a:pt x="6251" y="8334"/>
                </a:moveTo>
                <a:cubicBezTo>
                  <a:pt x="6251" y="8300"/>
                  <a:pt x="6242" y="8296"/>
                  <a:pt x="6201" y="8334"/>
                </a:cubicBezTo>
              </a:path>
              <a:path w="696" h="795">
                <a:moveTo>
                  <a:pt x="6871" y="7689"/>
                </a:moveTo>
                <a:cubicBezTo>
                  <a:pt x="6729" y="7760"/>
                  <a:pt x="6636" y="7825"/>
                  <a:pt x="6524" y="7938"/>
                </a:cubicBezTo>
                <a:cubicBezTo>
                  <a:pt x="6605" y="8033"/>
                  <a:pt x="6749" y="8064"/>
                  <a:pt x="6846" y="8161"/>
                </a:cubicBezTo>
                <a:cubicBezTo>
                  <a:pt x="6980" y="8295"/>
                  <a:pt x="6768" y="8432"/>
                  <a:pt x="6672" y="8483"/>
                </a:cubicBezTo>
                <a:cubicBezTo>
                  <a:pt x="6650" y="8271"/>
                  <a:pt x="6696" y="8106"/>
                  <a:pt x="6796" y="7913"/>
                </a:cubicBezTo>
                <a:cubicBezTo>
                  <a:pt x="6804" y="7905"/>
                  <a:pt x="6813" y="7896"/>
                  <a:pt x="6821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0" y="1901880"/>
            <a:ext cx="768240" cy="393480"/>
          </a:xfrm>
          <a:custGeom>
            <a:avLst/>
            <a:gdLst/>
            <a:ahLst/>
            <a:rect l="l" t="t" r="r" b="b"/>
            <a:pathLst>
              <a:path w="2134" h="1093">
                <a:moveTo>
                  <a:pt x="9277" y="6350"/>
                </a:moveTo>
                <a:cubicBezTo>
                  <a:pt x="9523" y="6350"/>
                  <a:pt x="9779" y="6318"/>
                  <a:pt x="10021" y="6325"/>
                </a:cubicBezTo>
                <a:cubicBezTo>
                  <a:pt x="10226" y="6331"/>
                  <a:pt x="10413" y="6360"/>
                  <a:pt x="10616" y="6350"/>
                </a:cubicBezTo>
                <a:cubicBezTo>
                  <a:pt x="10715" y="6345"/>
                  <a:pt x="10819" y="6355"/>
                  <a:pt x="10914" y="6325"/>
                </a:cubicBezTo>
                <a:cubicBezTo>
                  <a:pt x="11015" y="6293"/>
                  <a:pt x="11046" y="6241"/>
                  <a:pt x="11088" y="6152"/>
                </a:cubicBezTo>
                <a:cubicBezTo>
                  <a:pt x="11126" y="6071"/>
                  <a:pt x="11180" y="5964"/>
                  <a:pt x="11187" y="5879"/>
                </a:cubicBezTo>
                <a:cubicBezTo>
                  <a:pt x="11195" y="5785"/>
                  <a:pt x="11212" y="5702"/>
                  <a:pt x="11212" y="5606"/>
                </a:cubicBezTo>
                <a:cubicBezTo>
                  <a:pt x="11212" y="5486"/>
                  <a:pt x="11151" y="5389"/>
                  <a:pt x="11038" y="5333"/>
                </a:cubicBezTo>
                <a:cubicBezTo>
                  <a:pt x="10924" y="5276"/>
                  <a:pt x="10789" y="5283"/>
                  <a:pt x="10666" y="5283"/>
                </a:cubicBezTo>
                <a:cubicBezTo>
                  <a:pt x="10265" y="5283"/>
                  <a:pt x="9845" y="5251"/>
                  <a:pt x="9451" y="5308"/>
                </a:cubicBezTo>
                <a:cubicBezTo>
                  <a:pt x="9372" y="5319"/>
                  <a:pt x="9307" y="5340"/>
                  <a:pt x="9252" y="5407"/>
                </a:cubicBezTo>
                <a:cubicBezTo>
                  <a:pt x="9129" y="5558"/>
                  <a:pt x="9084" y="5814"/>
                  <a:pt x="9079" y="6003"/>
                </a:cubicBezTo>
                <a:cubicBezTo>
                  <a:pt x="9077" y="6094"/>
                  <a:pt x="9118" y="6246"/>
                  <a:pt x="9203" y="6300"/>
                </a:cubicBezTo>
                <a:cubicBezTo>
                  <a:pt x="9283" y="6351"/>
                  <a:pt x="9385" y="6350"/>
                  <a:pt x="9475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67200" y="2982960"/>
            <a:ext cx="7920" cy="17280"/>
          </a:xfrm>
          <a:custGeom>
            <a:avLst/>
            <a:gdLst/>
            <a:ahLst/>
            <a:rect l="l" t="t" r="r" b="b"/>
            <a:pathLst>
              <a:path w="25" h="50">
                <a:moveTo>
                  <a:pt x="13543" y="8285"/>
                </a:moveTo>
                <a:cubicBezTo>
                  <a:pt x="13535" y="8301"/>
                  <a:pt x="13527" y="8318"/>
                  <a:pt x="13519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83120" y="2768760"/>
            <a:ext cx="303120" cy="23148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14015" y="7813"/>
                </a:moveTo>
                <a:cubicBezTo>
                  <a:pt x="13956" y="7842"/>
                  <a:pt x="13903" y="7865"/>
                  <a:pt x="13841" y="7888"/>
                </a:cubicBezTo>
                <a:cubicBezTo>
                  <a:pt x="13904" y="8014"/>
                  <a:pt x="14021" y="8065"/>
                  <a:pt x="14089" y="8186"/>
                </a:cubicBezTo>
                <a:cubicBezTo>
                  <a:pt x="14179" y="8346"/>
                  <a:pt x="13989" y="8315"/>
                  <a:pt x="13915" y="8285"/>
                </a:cubicBezTo>
                <a:cubicBezTo>
                  <a:pt x="13942" y="8095"/>
                  <a:pt x="14053" y="8006"/>
                  <a:pt x="14139" y="7838"/>
                </a:cubicBezTo>
                <a:cubicBezTo>
                  <a:pt x="14147" y="7813"/>
                  <a:pt x="14155" y="7789"/>
                  <a:pt x="14163" y="7764"/>
                </a:cubicBezTo>
              </a:path>
              <a:path w="844" h="646">
                <a:moveTo>
                  <a:pt x="14684" y="7739"/>
                </a:moveTo>
                <a:cubicBezTo>
                  <a:pt x="14590" y="7675"/>
                  <a:pt x="14487" y="7664"/>
                  <a:pt x="14412" y="7789"/>
                </a:cubicBezTo>
                <a:cubicBezTo>
                  <a:pt x="14362" y="7873"/>
                  <a:pt x="14494" y="7942"/>
                  <a:pt x="14560" y="7888"/>
                </a:cubicBezTo>
                <a:cubicBezTo>
                  <a:pt x="14608" y="7849"/>
                  <a:pt x="14644" y="7763"/>
                  <a:pt x="14684" y="7714"/>
                </a:cubicBezTo>
                <a:cubicBezTo>
                  <a:pt x="14673" y="7855"/>
                  <a:pt x="14648" y="7996"/>
                  <a:pt x="14635" y="8136"/>
                </a:cubicBezTo>
                <a:cubicBezTo>
                  <a:pt x="14635" y="8161"/>
                  <a:pt x="14635" y="8185"/>
                  <a:pt x="14635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62800" y="1990800"/>
            <a:ext cx="1125360" cy="1233360"/>
          </a:xfrm>
          <a:custGeom>
            <a:avLst/>
            <a:gdLst/>
            <a:ahLst/>
            <a:rect l="l" t="t" r="r" b="b"/>
            <a:pathLst>
              <a:path w="3127" h="3424">
                <a:moveTo>
                  <a:pt x="18331" y="6499"/>
                </a:moveTo>
                <a:lnTo>
                  <a:pt x="18331" y="6499"/>
                </a:lnTo>
              </a:path>
              <a:path w="3127" h="3424">
                <a:moveTo>
                  <a:pt x="19100" y="5904"/>
                </a:moveTo>
                <a:cubicBezTo>
                  <a:pt x="19011" y="5974"/>
                  <a:pt x="18940" y="6017"/>
                  <a:pt x="19025" y="6127"/>
                </a:cubicBezTo>
                <a:cubicBezTo>
                  <a:pt x="19114" y="6242"/>
                  <a:pt x="19251" y="6274"/>
                  <a:pt x="19149" y="6424"/>
                </a:cubicBezTo>
                <a:cubicBezTo>
                  <a:pt x="19099" y="6475"/>
                  <a:pt x="19081" y="6492"/>
                  <a:pt x="19025" y="6474"/>
                </a:cubicBezTo>
                <a:cubicBezTo>
                  <a:pt x="18985" y="6354"/>
                  <a:pt x="19009" y="6286"/>
                  <a:pt x="19075" y="6176"/>
                </a:cubicBezTo>
                <a:cubicBezTo>
                  <a:pt x="19118" y="6111"/>
                  <a:pt x="19129" y="6096"/>
                  <a:pt x="19149" y="6052"/>
                </a:cubicBezTo>
              </a:path>
              <a:path w="3127" h="3424">
                <a:moveTo>
                  <a:pt x="19422" y="5804"/>
                </a:moveTo>
                <a:cubicBezTo>
                  <a:pt x="19444" y="5905"/>
                  <a:pt x="19427" y="6004"/>
                  <a:pt x="19546" y="6028"/>
                </a:cubicBezTo>
                <a:cubicBezTo>
                  <a:pt x="19571" y="6028"/>
                  <a:pt x="19596" y="6028"/>
                  <a:pt x="19621" y="6028"/>
                </a:cubicBezTo>
              </a:path>
              <a:path w="3127" h="3424">
                <a:moveTo>
                  <a:pt x="19794" y="5531"/>
                </a:moveTo>
                <a:cubicBezTo>
                  <a:pt x="19727" y="5761"/>
                  <a:pt x="19700" y="5995"/>
                  <a:pt x="19645" y="6226"/>
                </a:cubicBezTo>
                <a:cubicBezTo>
                  <a:pt x="19629" y="6276"/>
                  <a:pt x="19612" y="6325"/>
                  <a:pt x="19596" y="6375"/>
                </a:cubicBezTo>
              </a:path>
              <a:path w="3127" h="3424">
                <a:moveTo>
                  <a:pt x="18604" y="7268"/>
                </a:moveTo>
                <a:cubicBezTo>
                  <a:pt x="18604" y="7284"/>
                  <a:pt x="18604" y="7301"/>
                  <a:pt x="18604" y="7317"/>
                </a:cubicBezTo>
              </a:path>
              <a:path w="3127" h="3424">
                <a:moveTo>
                  <a:pt x="19199" y="6871"/>
                </a:moveTo>
                <a:cubicBezTo>
                  <a:pt x="19120" y="6878"/>
                  <a:pt x="19055" y="6870"/>
                  <a:pt x="19050" y="6970"/>
                </a:cubicBezTo>
                <a:cubicBezTo>
                  <a:pt x="19044" y="7094"/>
                  <a:pt x="19200" y="7090"/>
                  <a:pt x="19273" y="7193"/>
                </a:cubicBezTo>
                <a:cubicBezTo>
                  <a:pt x="19273" y="7228"/>
                  <a:pt x="19268" y="7246"/>
                  <a:pt x="19248" y="7268"/>
                </a:cubicBezTo>
                <a:cubicBezTo>
                  <a:pt x="19127" y="7222"/>
                  <a:pt x="19140" y="7140"/>
                  <a:pt x="19199" y="7020"/>
                </a:cubicBezTo>
                <a:cubicBezTo>
                  <a:pt x="19238" y="6960"/>
                  <a:pt x="19241" y="6948"/>
                  <a:pt x="19273" y="6921"/>
                </a:cubicBezTo>
              </a:path>
              <a:path w="3127" h="3424">
                <a:moveTo>
                  <a:pt x="18653" y="7962"/>
                </a:moveTo>
                <a:cubicBezTo>
                  <a:pt x="18708" y="7910"/>
                  <a:pt x="18658" y="8001"/>
                  <a:pt x="18653" y="8037"/>
                </a:cubicBezTo>
              </a:path>
              <a:path w="3127" h="3424">
                <a:moveTo>
                  <a:pt x="19248" y="7714"/>
                </a:moveTo>
                <a:cubicBezTo>
                  <a:pt x="19126" y="7755"/>
                  <a:pt x="19070" y="7871"/>
                  <a:pt x="19075" y="8012"/>
                </a:cubicBezTo>
                <a:cubicBezTo>
                  <a:pt x="19083" y="8037"/>
                  <a:pt x="19092" y="8061"/>
                  <a:pt x="19100" y="8086"/>
                </a:cubicBezTo>
                <a:cubicBezTo>
                  <a:pt x="19231" y="8137"/>
                  <a:pt x="19351" y="8125"/>
                  <a:pt x="19422" y="7962"/>
                </a:cubicBezTo>
                <a:cubicBezTo>
                  <a:pt x="19496" y="7792"/>
                  <a:pt x="19408" y="7743"/>
                  <a:pt x="19298" y="7689"/>
                </a:cubicBezTo>
                <a:cubicBezTo>
                  <a:pt x="19290" y="7681"/>
                  <a:pt x="19281" y="7673"/>
                  <a:pt x="19273" y="7665"/>
                </a:cubicBezTo>
              </a:path>
              <a:path w="3127" h="3424">
                <a:moveTo>
                  <a:pt x="20017" y="7516"/>
                </a:moveTo>
                <a:cubicBezTo>
                  <a:pt x="19881" y="7527"/>
                  <a:pt x="19824" y="7553"/>
                  <a:pt x="19720" y="7640"/>
                </a:cubicBezTo>
                <a:cubicBezTo>
                  <a:pt x="19761" y="7804"/>
                  <a:pt x="19877" y="7817"/>
                  <a:pt x="19993" y="7938"/>
                </a:cubicBezTo>
                <a:cubicBezTo>
                  <a:pt x="20017" y="7987"/>
                  <a:pt x="20025" y="8004"/>
                  <a:pt x="19993" y="8037"/>
                </a:cubicBezTo>
                <a:cubicBezTo>
                  <a:pt x="19859" y="8055"/>
                  <a:pt x="19763" y="8063"/>
                  <a:pt x="19844" y="7888"/>
                </a:cubicBezTo>
                <a:cubicBezTo>
                  <a:pt x="19893" y="7781"/>
                  <a:pt x="19976" y="7687"/>
                  <a:pt x="20042" y="7590"/>
                </a:cubicBezTo>
              </a:path>
              <a:path w="3127" h="3424">
                <a:moveTo>
                  <a:pt x="20712" y="7640"/>
                </a:moveTo>
                <a:cubicBezTo>
                  <a:pt x="20663" y="7571"/>
                  <a:pt x="20584" y="7530"/>
                  <a:pt x="20489" y="7565"/>
                </a:cubicBezTo>
                <a:cubicBezTo>
                  <a:pt x="20393" y="7601"/>
                  <a:pt x="20358" y="7661"/>
                  <a:pt x="20315" y="7739"/>
                </a:cubicBezTo>
                <a:cubicBezTo>
                  <a:pt x="20395" y="7809"/>
                  <a:pt x="20475" y="7846"/>
                  <a:pt x="20563" y="7739"/>
                </a:cubicBezTo>
                <a:cubicBezTo>
                  <a:pt x="20607" y="7652"/>
                  <a:pt x="20614" y="7629"/>
                  <a:pt x="20662" y="7590"/>
                </a:cubicBezTo>
                <a:cubicBezTo>
                  <a:pt x="20630" y="7739"/>
                  <a:pt x="20626" y="7891"/>
                  <a:pt x="20588" y="8037"/>
                </a:cubicBezTo>
                <a:cubicBezTo>
                  <a:pt x="20580" y="8062"/>
                  <a:pt x="20571" y="8086"/>
                  <a:pt x="20563" y="8111"/>
                </a:cubicBezTo>
              </a:path>
              <a:path w="3127" h="3424">
                <a:moveTo>
                  <a:pt x="18628" y="8830"/>
                </a:moveTo>
                <a:cubicBezTo>
                  <a:pt x="18628" y="8888"/>
                  <a:pt x="18628" y="8913"/>
                  <a:pt x="18628" y="8954"/>
                </a:cubicBezTo>
              </a:path>
              <a:path w="3127" h="3424">
                <a:moveTo>
                  <a:pt x="19472" y="8409"/>
                </a:moveTo>
                <a:cubicBezTo>
                  <a:pt x="19382" y="8437"/>
                  <a:pt x="19322" y="8456"/>
                  <a:pt x="19248" y="8508"/>
                </a:cubicBezTo>
                <a:cubicBezTo>
                  <a:pt x="19283" y="8612"/>
                  <a:pt x="19418" y="8731"/>
                  <a:pt x="19422" y="8830"/>
                </a:cubicBezTo>
                <a:cubicBezTo>
                  <a:pt x="19426" y="8914"/>
                  <a:pt x="19318" y="8901"/>
                  <a:pt x="19273" y="8905"/>
                </a:cubicBezTo>
                <a:cubicBezTo>
                  <a:pt x="19273" y="8749"/>
                  <a:pt x="19341" y="8678"/>
                  <a:pt x="19447" y="8558"/>
                </a:cubicBezTo>
                <a:cubicBezTo>
                  <a:pt x="19513" y="8491"/>
                  <a:pt x="19529" y="8475"/>
                  <a:pt x="19571" y="8434"/>
                </a:cubicBezTo>
              </a:path>
              <a:path w="3127" h="3424">
                <a:moveTo>
                  <a:pt x="19918" y="8434"/>
                </a:moveTo>
                <a:cubicBezTo>
                  <a:pt x="19858" y="8472"/>
                  <a:pt x="19629" y="8632"/>
                  <a:pt x="19869" y="8632"/>
                </a:cubicBezTo>
                <a:cubicBezTo>
                  <a:pt x="19928" y="8602"/>
                  <a:pt x="19954" y="8587"/>
                  <a:pt x="19993" y="8558"/>
                </a:cubicBezTo>
                <a:cubicBezTo>
                  <a:pt x="20001" y="8533"/>
                  <a:pt x="20009" y="8508"/>
                  <a:pt x="20017" y="8483"/>
                </a:cubicBezTo>
                <a:cubicBezTo>
                  <a:pt x="19987" y="8614"/>
                  <a:pt x="19971" y="8751"/>
                  <a:pt x="19943" y="8880"/>
                </a:cubicBezTo>
                <a:cubicBezTo>
                  <a:pt x="19935" y="8905"/>
                  <a:pt x="19926" y="8929"/>
                  <a:pt x="19918" y="8954"/>
                </a:cubicBezTo>
              </a:path>
              <a:path w="3127" h="3424">
                <a:moveTo>
                  <a:pt x="18306" y="8161"/>
                </a:moveTo>
                <a:cubicBezTo>
                  <a:pt x="18428" y="8106"/>
                  <a:pt x="18542" y="8098"/>
                  <a:pt x="18678" y="8111"/>
                </a:cubicBezTo>
                <a:cubicBezTo>
                  <a:pt x="19166" y="8158"/>
                  <a:pt x="19654" y="8232"/>
                  <a:pt x="20141" y="8285"/>
                </a:cubicBezTo>
                <a:cubicBezTo>
                  <a:pt x="20486" y="8323"/>
                  <a:pt x="20838" y="8338"/>
                  <a:pt x="21183" y="8359"/>
                </a:cubicBezTo>
                <a:cubicBezTo>
                  <a:pt x="21274" y="8359"/>
                  <a:pt x="21299" y="8359"/>
                  <a:pt x="21357" y="8359"/>
                </a:cubicBezTo>
              </a:path>
              <a:path w="3127" h="3424">
                <a:moveTo>
                  <a:pt x="21233" y="8012"/>
                </a:moveTo>
                <a:cubicBezTo>
                  <a:pt x="20998" y="7953"/>
                  <a:pt x="20781" y="7921"/>
                  <a:pt x="20538" y="7888"/>
                </a:cubicBezTo>
                <a:cubicBezTo>
                  <a:pt x="20098" y="7828"/>
                  <a:pt x="19665" y="7722"/>
                  <a:pt x="19224" y="7665"/>
                </a:cubicBezTo>
                <a:cubicBezTo>
                  <a:pt x="18931" y="7627"/>
                  <a:pt x="18626" y="7621"/>
                  <a:pt x="18331" y="7615"/>
                </a:cubicBezTo>
                <a:cubicBezTo>
                  <a:pt x="18298" y="7615"/>
                  <a:pt x="18264" y="7615"/>
                  <a:pt x="18231" y="7615"/>
                </a:cubicBezTo>
              </a:path>
              <a:path w="3127" h="3424">
                <a:moveTo>
                  <a:pt x="19670" y="6846"/>
                </a:moveTo>
                <a:cubicBezTo>
                  <a:pt x="19523" y="6887"/>
                  <a:pt x="19515" y="6870"/>
                  <a:pt x="19447" y="6995"/>
                </a:cubicBezTo>
                <a:cubicBezTo>
                  <a:pt x="19605" y="7119"/>
                  <a:pt x="19737" y="7157"/>
                  <a:pt x="19943" y="7094"/>
                </a:cubicBezTo>
                <a:cubicBezTo>
                  <a:pt x="20064" y="7057"/>
                  <a:pt x="20123" y="6903"/>
                  <a:pt x="19993" y="6821"/>
                </a:cubicBezTo>
                <a:cubicBezTo>
                  <a:pt x="19894" y="6796"/>
                  <a:pt x="19862" y="6788"/>
                  <a:pt x="19794" y="6796"/>
                </a:cubicBezTo>
              </a:path>
              <a:path w="3127" h="3424">
                <a:moveTo>
                  <a:pt x="18777" y="7317"/>
                </a:moveTo>
                <a:cubicBezTo>
                  <a:pt x="18947" y="7243"/>
                  <a:pt x="19138" y="7226"/>
                  <a:pt x="19323" y="7218"/>
                </a:cubicBezTo>
                <a:cubicBezTo>
                  <a:pt x="19703" y="7202"/>
                  <a:pt x="20084" y="7209"/>
                  <a:pt x="20464" y="7193"/>
                </a:cubicBezTo>
                <a:cubicBezTo>
                  <a:pt x="20572" y="7193"/>
                  <a:pt x="20580" y="7193"/>
                  <a:pt x="20638" y="7193"/>
                </a:cubicBezTo>
              </a:path>
              <a:path w="3127" h="3424">
                <a:moveTo>
                  <a:pt x="18430" y="6276"/>
                </a:moveTo>
                <a:cubicBezTo>
                  <a:pt x="18803" y="6210"/>
                  <a:pt x="19190" y="6210"/>
                  <a:pt x="19571" y="6201"/>
                </a:cubicBezTo>
                <a:cubicBezTo>
                  <a:pt x="19812" y="6195"/>
                  <a:pt x="20050" y="6185"/>
                  <a:pt x="20290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82840" y="4037040"/>
            <a:ext cx="144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4118" y="11212"/>
                </a:moveTo>
                <a:cubicBezTo>
                  <a:pt x="4118" y="11245"/>
                  <a:pt x="4118" y="11261"/>
                  <a:pt x="4118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5760" y="3911760"/>
            <a:ext cx="401400" cy="179280"/>
          </a:xfrm>
          <a:custGeom>
            <a:avLst/>
            <a:gdLst/>
            <a:ahLst/>
            <a:rect l="l" t="t" r="r" b="b"/>
            <a:pathLst>
              <a:path w="1118" h="498">
                <a:moveTo>
                  <a:pt x="4787" y="10889"/>
                </a:moveTo>
                <a:cubicBezTo>
                  <a:pt x="4664" y="10990"/>
                  <a:pt x="4500" y="11083"/>
                  <a:pt x="4514" y="11261"/>
                </a:cubicBezTo>
                <a:cubicBezTo>
                  <a:pt x="4522" y="11278"/>
                  <a:pt x="4531" y="11294"/>
                  <a:pt x="4539" y="11311"/>
                </a:cubicBezTo>
                <a:cubicBezTo>
                  <a:pt x="4695" y="11293"/>
                  <a:pt x="4856" y="11263"/>
                  <a:pt x="4862" y="11063"/>
                </a:cubicBezTo>
                <a:cubicBezTo>
                  <a:pt x="4836" y="10985"/>
                  <a:pt x="4825" y="10958"/>
                  <a:pt x="4762" y="10939"/>
                </a:cubicBezTo>
              </a:path>
              <a:path w="1118" h="498">
                <a:moveTo>
                  <a:pt x="5085" y="10914"/>
                </a:moveTo>
                <a:cubicBezTo>
                  <a:pt x="4937" y="11013"/>
                  <a:pt x="5062" y="11050"/>
                  <a:pt x="5135" y="11187"/>
                </a:cubicBezTo>
                <a:cubicBezTo>
                  <a:pt x="5200" y="11310"/>
                  <a:pt x="5137" y="11324"/>
                  <a:pt x="5035" y="11361"/>
                </a:cubicBezTo>
                <a:cubicBezTo>
                  <a:pt x="5055" y="11191"/>
                  <a:pt x="5111" y="11104"/>
                  <a:pt x="5209" y="10964"/>
                </a:cubicBezTo>
              </a:path>
              <a:path w="1118" h="498">
                <a:moveTo>
                  <a:pt x="5631" y="10889"/>
                </a:moveTo>
                <a:cubicBezTo>
                  <a:pt x="5525" y="10854"/>
                  <a:pt x="5481" y="10919"/>
                  <a:pt x="5432" y="11013"/>
                </a:cubicBezTo>
                <a:cubicBezTo>
                  <a:pt x="5364" y="11142"/>
                  <a:pt x="5547" y="11015"/>
                  <a:pt x="5581" y="10988"/>
                </a:cubicBezTo>
                <a:cubicBezTo>
                  <a:pt x="5572" y="11118"/>
                  <a:pt x="5544" y="11236"/>
                  <a:pt x="5507" y="113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920" y="4027320"/>
            <a:ext cx="7920" cy="17640"/>
          </a:xfrm>
          <a:custGeom>
            <a:avLst/>
            <a:gdLst/>
            <a:ahLst/>
            <a:rect l="l" t="t" r="r" b="b"/>
            <a:pathLst>
              <a:path w="26" h="51">
                <a:moveTo>
                  <a:pt x="6995" y="11187"/>
                </a:moveTo>
                <a:cubicBezTo>
                  <a:pt x="6987" y="11204"/>
                  <a:pt x="6978" y="11220"/>
                  <a:pt x="6970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43120" y="387504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7640" y="10790"/>
                </a:moveTo>
                <a:cubicBezTo>
                  <a:pt x="7543" y="10771"/>
                  <a:pt x="7440" y="10776"/>
                  <a:pt x="7367" y="10864"/>
                </a:cubicBezTo>
                <a:cubicBezTo>
                  <a:pt x="7299" y="10946"/>
                  <a:pt x="7468" y="11072"/>
                  <a:pt x="7491" y="11162"/>
                </a:cubicBezTo>
                <a:cubicBezTo>
                  <a:pt x="7516" y="11259"/>
                  <a:pt x="7455" y="11249"/>
                  <a:pt x="7392" y="11261"/>
                </a:cubicBezTo>
                <a:cubicBezTo>
                  <a:pt x="7306" y="11177"/>
                  <a:pt x="7344" y="11100"/>
                  <a:pt x="7441" y="11013"/>
                </a:cubicBezTo>
                <a:cubicBezTo>
                  <a:pt x="7536" y="10943"/>
                  <a:pt x="7565" y="10923"/>
                  <a:pt x="7615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4054320"/>
            <a:ext cx="17280" cy="44640"/>
          </a:xfrm>
          <a:custGeom>
            <a:avLst/>
            <a:gdLst/>
            <a:ahLst/>
            <a:rect l="l" t="t" r="r" b="b"/>
            <a:pathLst>
              <a:path w="51" h="125">
                <a:moveTo>
                  <a:pt x="9203" y="11261"/>
                </a:moveTo>
                <a:cubicBezTo>
                  <a:pt x="9181" y="11328"/>
                  <a:pt x="9176" y="11346"/>
                  <a:pt x="9153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83000" y="3867120"/>
            <a:ext cx="106200" cy="169920"/>
          </a:xfrm>
          <a:custGeom>
            <a:avLst/>
            <a:gdLst/>
            <a:ahLst/>
            <a:rect l="l" t="t" r="r" b="b"/>
            <a:pathLst>
              <a:path w="298" h="473">
                <a:moveTo>
                  <a:pt x="9971" y="10740"/>
                </a:moveTo>
                <a:cubicBezTo>
                  <a:pt x="9894" y="10746"/>
                  <a:pt x="9741" y="10742"/>
                  <a:pt x="9748" y="10864"/>
                </a:cubicBezTo>
                <a:cubicBezTo>
                  <a:pt x="9754" y="10974"/>
                  <a:pt x="9892" y="11047"/>
                  <a:pt x="9897" y="11137"/>
                </a:cubicBezTo>
                <a:cubicBezTo>
                  <a:pt x="9904" y="11274"/>
                  <a:pt x="9715" y="11187"/>
                  <a:pt x="9674" y="11162"/>
                </a:cubicBezTo>
                <a:cubicBezTo>
                  <a:pt x="9716" y="10978"/>
                  <a:pt x="9821" y="10960"/>
                  <a:pt x="9947" y="10840"/>
                </a:cubicBezTo>
                <a:cubicBezTo>
                  <a:pt x="9955" y="10823"/>
                  <a:pt x="9963" y="10807"/>
                  <a:pt x="9971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87840" y="3821040"/>
            <a:ext cx="125280" cy="206280"/>
          </a:xfrm>
          <a:custGeom>
            <a:avLst/>
            <a:gdLst/>
            <a:ahLst/>
            <a:rect l="l" t="t" r="r" b="b"/>
            <a:pathLst>
              <a:path w="349" h="572">
                <a:moveTo>
                  <a:pt x="10269" y="10716"/>
                </a:moveTo>
                <a:cubicBezTo>
                  <a:pt x="10263" y="10770"/>
                  <a:pt x="10207" y="10894"/>
                  <a:pt x="10269" y="10939"/>
                </a:cubicBezTo>
                <a:cubicBezTo>
                  <a:pt x="10341" y="10991"/>
                  <a:pt x="10419" y="10958"/>
                  <a:pt x="10492" y="10939"/>
                </a:cubicBezTo>
              </a:path>
              <a:path w="349" h="572">
                <a:moveTo>
                  <a:pt x="10592" y="10616"/>
                </a:moveTo>
                <a:cubicBezTo>
                  <a:pt x="10497" y="10774"/>
                  <a:pt x="10418" y="10944"/>
                  <a:pt x="10344" y="11112"/>
                </a:cubicBezTo>
                <a:cubicBezTo>
                  <a:pt x="10336" y="11137"/>
                  <a:pt x="10327" y="11162"/>
                  <a:pt x="10319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30800" y="3990960"/>
            <a:ext cx="19080" cy="46080"/>
          </a:xfrm>
          <a:custGeom>
            <a:avLst/>
            <a:gdLst/>
            <a:ahLst/>
            <a:rect l="l" t="t" r="r" b="b"/>
            <a:pathLst>
              <a:path w="51" h="125">
                <a:moveTo>
                  <a:pt x="12080" y="11088"/>
                </a:moveTo>
                <a:cubicBezTo>
                  <a:pt x="12069" y="11131"/>
                  <a:pt x="12049" y="11167"/>
                  <a:pt x="12030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1000" y="3867120"/>
            <a:ext cx="250920" cy="177840"/>
          </a:xfrm>
          <a:custGeom>
            <a:avLst/>
            <a:gdLst/>
            <a:ahLst/>
            <a:rect l="l" t="t" r="r" b="b"/>
            <a:pathLst>
              <a:path w="695" h="498">
                <a:moveTo>
                  <a:pt x="12576" y="10740"/>
                </a:moveTo>
                <a:cubicBezTo>
                  <a:pt x="12408" y="10808"/>
                  <a:pt x="12512" y="10856"/>
                  <a:pt x="12576" y="10988"/>
                </a:cubicBezTo>
                <a:cubicBezTo>
                  <a:pt x="12636" y="11113"/>
                  <a:pt x="12615" y="11166"/>
                  <a:pt x="12502" y="11212"/>
                </a:cubicBezTo>
                <a:cubicBezTo>
                  <a:pt x="12431" y="11118"/>
                  <a:pt x="12566" y="11029"/>
                  <a:pt x="12626" y="10964"/>
                </a:cubicBezTo>
                <a:cubicBezTo>
                  <a:pt x="12684" y="10906"/>
                  <a:pt x="12692" y="10897"/>
                  <a:pt x="12725" y="10864"/>
                </a:cubicBezTo>
              </a:path>
              <a:path w="695" h="498">
                <a:moveTo>
                  <a:pt x="13171" y="10790"/>
                </a:moveTo>
                <a:cubicBezTo>
                  <a:pt x="13078" y="10750"/>
                  <a:pt x="13006" y="10758"/>
                  <a:pt x="12948" y="10864"/>
                </a:cubicBezTo>
                <a:cubicBezTo>
                  <a:pt x="12920" y="10915"/>
                  <a:pt x="13021" y="10892"/>
                  <a:pt x="13072" y="10864"/>
                </a:cubicBezTo>
                <a:cubicBezTo>
                  <a:pt x="13118" y="10956"/>
                  <a:pt x="13052" y="11062"/>
                  <a:pt x="12998" y="11187"/>
                </a:cubicBezTo>
                <a:cubicBezTo>
                  <a:pt x="12990" y="11204"/>
                  <a:pt x="12981" y="11220"/>
                  <a:pt x="12973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76200" y="4062240"/>
            <a:ext cx="3733920" cy="1652760"/>
          </a:xfrm>
          <a:custGeom>
            <a:avLst/>
            <a:gdLst/>
            <a:ahLst/>
            <a:rect l="l" t="t" r="r" b="b"/>
            <a:pathLst>
              <a:path w="10369" h="4590">
                <a:moveTo>
                  <a:pt x="13419" y="11584"/>
                </a:moveTo>
                <a:cubicBezTo>
                  <a:pt x="13369" y="11527"/>
                  <a:pt x="13363" y="11443"/>
                  <a:pt x="13271" y="11385"/>
                </a:cubicBezTo>
                <a:cubicBezTo>
                  <a:pt x="13182" y="11329"/>
                  <a:pt x="13102" y="11295"/>
                  <a:pt x="12998" y="11286"/>
                </a:cubicBezTo>
                <a:cubicBezTo>
                  <a:pt x="12897" y="11277"/>
                  <a:pt x="12772" y="11291"/>
                  <a:pt x="12675" y="11311"/>
                </a:cubicBezTo>
                <a:cubicBezTo>
                  <a:pt x="12563" y="11334"/>
                  <a:pt x="12461" y="11378"/>
                  <a:pt x="12353" y="11410"/>
                </a:cubicBezTo>
                <a:cubicBezTo>
                  <a:pt x="12266" y="11436"/>
                  <a:pt x="12192" y="11446"/>
                  <a:pt x="12105" y="11460"/>
                </a:cubicBezTo>
                <a:cubicBezTo>
                  <a:pt x="12029" y="11472"/>
                  <a:pt x="11959" y="11486"/>
                  <a:pt x="11881" y="11485"/>
                </a:cubicBezTo>
                <a:cubicBezTo>
                  <a:pt x="11735" y="11483"/>
                  <a:pt x="11550" y="11469"/>
                  <a:pt x="11410" y="11460"/>
                </a:cubicBezTo>
                <a:cubicBezTo>
                  <a:pt x="11316" y="11454"/>
                  <a:pt x="11218" y="11460"/>
                  <a:pt x="11137" y="11460"/>
                </a:cubicBezTo>
                <a:cubicBezTo>
                  <a:pt x="10912" y="11460"/>
                  <a:pt x="10694" y="11482"/>
                  <a:pt x="10468" y="11485"/>
                </a:cubicBezTo>
                <a:cubicBezTo>
                  <a:pt x="10360" y="11487"/>
                  <a:pt x="10262" y="11482"/>
                  <a:pt x="10170" y="11460"/>
                </a:cubicBezTo>
                <a:cubicBezTo>
                  <a:pt x="10024" y="11426"/>
                  <a:pt x="9898" y="11384"/>
                  <a:pt x="9748" y="11361"/>
                </a:cubicBezTo>
                <a:cubicBezTo>
                  <a:pt x="9557" y="11332"/>
                  <a:pt x="9393" y="11342"/>
                  <a:pt x="9203" y="11361"/>
                </a:cubicBezTo>
                <a:cubicBezTo>
                  <a:pt x="9086" y="11373"/>
                  <a:pt x="8973" y="11394"/>
                  <a:pt x="8855" y="11410"/>
                </a:cubicBezTo>
                <a:cubicBezTo>
                  <a:pt x="8693" y="11432"/>
                  <a:pt x="8495" y="11513"/>
                  <a:pt x="8334" y="11509"/>
                </a:cubicBezTo>
                <a:cubicBezTo>
                  <a:pt x="8257" y="11507"/>
                  <a:pt x="8169" y="11463"/>
                  <a:pt x="8086" y="11460"/>
                </a:cubicBezTo>
                <a:cubicBezTo>
                  <a:pt x="7959" y="11455"/>
                  <a:pt x="7831" y="11460"/>
                  <a:pt x="7714" y="11460"/>
                </a:cubicBezTo>
                <a:cubicBezTo>
                  <a:pt x="7642" y="11460"/>
                  <a:pt x="7550" y="11447"/>
                  <a:pt x="7466" y="11460"/>
                </a:cubicBezTo>
                <a:cubicBezTo>
                  <a:pt x="7343" y="11479"/>
                  <a:pt x="7217" y="11522"/>
                  <a:pt x="7094" y="11534"/>
                </a:cubicBezTo>
                <a:cubicBezTo>
                  <a:pt x="6956" y="11547"/>
                  <a:pt x="6824" y="11515"/>
                  <a:pt x="6697" y="11509"/>
                </a:cubicBezTo>
                <a:cubicBezTo>
                  <a:pt x="6415" y="11497"/>
                  <a:pt x="6150" y="11483"/>
                  <a:pt x="5879" y="11435"/>
                </a:cubicBezTo>
                <a:cubicBezTo>
                  <a:pt x="5803" y="11422"/>
                  <a:pt x="5733" y="11415"/>
                  <a:pt x="5655" y="11410"/>
                </a:cubicBezTo>
                <a:cubicBezTo>
                  <a:pt x="5541" y="11403"/>
                  <a:pt x="5411" y="11404"/>
                  <a:pt x="5308" y="11410"/>
                </a:cubicBezTo>
                <a:cubicBezTo>
                  <a:pt x="5205" y="11416"/>
                  <a:pt x="5112" y="11425"/>
                  <a:pt x="5011" y="11435"/>
                </a:cubicBezTo>
                <a:cubicBezTo>
                  <a:pt x="4918" y="11444"/>
                  <a:pt x="4830" y="11448"/>
                  <a:pt x="4738" y="11460"/>
                </a:cubicBezTo>
                <a:cubicBezTo>
                  <a:pt x="4653" y="11471"/>
                  <a:pt x="4574" y="11471"/>
                  <a:pt x="4490" y="11485"/>
                </a:cubicBezTo>
                <a:cubicBezTo>
                  <a:pt x="4352" y="11509"/>
                  <a:pt x="4202" y="11517"/>
                  <a:pt x="4068" y="11559"/>
                </a:cubicBezTo>
                <a:cubicBezTo>
                  <a:pt x="3958" y="11594"/>
                  <a:pt x="3924" y="11613"/>
                  <a:pt x="3820" y="11683"/>
                </a:cubicBezTo>
                <a:cubicBezTo>
                  <a:pt x="3718" y="11751"/>
                  <a:pt x="3606" y="11858"/>
                  <a:pt x="3572" y="11981"/>
                </a:cubicBezTo>
                <a:cubicBezTo>
                  <a:pt x="3541" y="12093"/>
                  <a:pt x="3550" y="12127"/>
                  <a:pt x="3597" y="12229"/>
                </a:cubicBezTo>
                <a:cubicBezTo>
                  <a:pt x="3635" y="12310"/>
                  <a:pt x="3705" y="12346"/>
                  <a:pt x="3770" y="12402"/>
                </a:cubicBezTo>
                <a:cubicBezTo>
                  <a:pt x="3839" y="12462"/>
                  <a:pt x="3912" y="12488"/>
                  <a:pt x="3994" y="12526"/>
                </a:cubicBezTo>
                <a:cubicBezTo>
                  <a:pt x="4084" y="12568"/>
                  <a:pt x="4177" y="12611"/>
                  <a:pt x="4266" y="12650"/>
                </a:cubicBezTo>
              </a:path>
              <a:path w="10369" h="4590">
                <a:moveTo>
                  <a:pt x="5333" y="12948"/>
                </a:moveTo>
                <a:cubicBezTo>
                  <a:pt x="5432" y="12948"/>
                  <a:pt x="5532" y="12948"/>
                  <a:pt x="5631" y="12948"/>
                </a:cubicBezTo>
              </a:path>
              <a:path w="10369" h="4590">
                <a:moveTo>
                  <a:pt x="6201" y="13022"/>
                </a:moveTo>
                <a:cubicBezTo>
                  <a:pt x="6330" y="13026"/>
                  <a:pt x="6449" y="13031"/>
                  <a:pt x="6573" y="13047"/>
                </a:cubicBezTo>
                <a:cubicBezTo>
                  <a:pt x="6671" y="13059"/>
                  <a:pt x="6777" y="13088"/>
                  <a:pt x="6871" y="13097"/>
                </a:cubicBezTo>
                <a:cubicBezTo>
                  <a:pt x="7004" y="13110"/>
                  <a:pt x="7143" y="13089"/>
                  <a:pt x="7268" y="13097"/>
                </a:cubicBezTo>
                <a:cubicBezTo>
                  <a:pt x="7443" y="13108"/>
                  <a:pt x="7589" y="13104"/>
                  <a:pt x="7764" y="13097"/>
                </a:cubicBezTo>
                <a:cubicBezTo>
                  <a:pt x="8195" y="13080"/>
                  <a:pt x="8636" y="13117"/>
                  <a:pt x="9054" y="13122"/>
                </a:cubicBezTo>
                <a:cubicBezTo>
                  <a:pt x="9238" y="13124"/>
                  <a:pt x="9417" y="13125"/>
                  <a:pt x="9599" y="13146"/>
                </a:cubicBezTo>
                <a:cubicBezTo>
                  <a:pt x="9725" y="13160"/>
                  <a:pt x="9845" y="13200"/>
                  <a:pt x="9971" y="13221"/>
                </a:cubicBezTo>
                <a:cubicBezTo>
                  <a:pt x="10112" y="13245"/>
                  <a:pt x="10251" y="13255"/>
                  <a:pt x="10393" y="13271"/>
                </a:cubicBezTo>
                <a:cubicBezTo>
                  <a:pt x="10554" y="13289"/>
                  <a:pt x="10679" y="13285"/>
                  <a:pt x="10840" y="13271"/>
                </a:cubicBezTo>
                <a:cubicBezTo>
                  <a:pt x="10990" y="13258"/>
                  <a:pt x="11136" y="13220"/>
                  <a:pt x="11286" y="13196"/>
                </a:cubicBezTo>
                <a:cubicBezTo>
                  <a:pt x="11423" y="13174"/>
                  <a:pt x="11570" y="13160"/>
                  <a:pt x="11708" y="13146"/>
                </a:cubicBezTo>
                <a:cubicBezTo>
                  <a:pt x="11880" y="13129"/>
                  <a:pt x="12058" y="13143"/>
                  <a:pt x="12229" y="13122"/>
                </a:cubicBezTo>
                <a:cubicBezTo>
                  <a:pt x="12397" y="13102"/>
                  <a:pt x="12557" y="13086"/>
                  <a:pt x="12725" y="13072"/>
                </a:cubicBezTo>
                <a:cubicBezTo>
                  <a:pt x="12897" y="13058"/>
                  <a:pt x="13056" y="13063"/>
                  <a:pt x="13221" y="13072"/>
                </a:cubicBezTo>
                <a:cubicBezTo>
                  <a:pt x="13379" y="13081"/>
                  <a:pt x="13409" y="13045"/>
                  <a:pt x="13519" y="12948"/>
                </a:cubicBezTo>
                <a:cubicBezTo>
                  <a:pt x="13610" y="12868"/>
                  <a:pt x="13677" y="12777"/>
                  <a:pt x="13742" y="12675"/>
                </a:cubicBezTo>
                <a:cubicBezTo>
                  <a:pt x="13805" y="12576"/>
                  <a:pt x="13919" y="12427"/>
                  <a:pt x="13915" y="12303"/>
                </a:cubicBezTo>
                <a:cubicBezTo>
                  <a:pt x="13911" y="12192"/>
                  <a:pt x="13813" y="12123"/>
                  <a:pt x="13742" y="12055"/>
                </a:cubicBezTo>
                <a:cubicBezTo>
                  <a:pt x="13664" y="11981"/>
                  <a:pt x="13581" y="11891"/>
                  <a:pt x="13494" y="11832"/>
                </a:cubicBezTo>
                <a:cubicBezTo>
                  <a:pt x="13435" y="11792"/>
                  <a:pt x="13377" y="11770"/>
                  <a:pt x="13320" y="11733"/>
                </a:cubicBezTo>
              </a:path>
              <a:path w="10369" h="4590">
                <a:moveTo>
                  <a:pt x="3721" y="14139"/>
                </a:moveTo>
                <a:cubicBezTo>
                  <a:pt x="3691" y="14237"/>
                  <a:pt x="3696" y="14331"/>
                  <a:pt x="3696" y="14436"/>
                </a:cubicBezTo>
              </a:path>
              <a:path w="10369" h="4590">
                <a:moveTo>
                  <a:pt x="3795" y="14188"/>
                </a:moveTo>
                <a:cubicBezTo>
                  <a:pt x="3727" y="14269"/>
                  <a:pt x="3678" y="14345"/>
                  <a:pt x="3621" y="14436"/>
                </a:cubicBezTo>
              </a:path>
              <a:path w="10369" h="4590">
                <a:moveTo>
                  <a:pt x="3894" y="14412"/>
                </a:moveTo>
                <a:cubicBezTo>
                  <a:pt x="3851" y="14516"/>
                  <a:pt x="3910" y="14524"/>
                  <a:pt x="3969" y="14610"/>
                </a:cubicBezTo>
                <a:cubicBezTo>
                  <a:pt x="3993" y="14658"/>
                  <a:pt x="4001" y="14672"/>
                  <a:pt x="3994" y="14709"/>
                </a:cubicBezTo>
              </a:path>
              <a:path w="10369" h="4590">
                <a:moveTo>
                  <a:pt x="3944" y="14387"/>
                </a:moveTo>
                <a:cubicBezTo>
                  <a:pt x="3996" y="14387"/>
                  <a:pt x="4014" y="14386"/>
                  <a:pt x="4043" y="14362"/>
                </a:cubicBezTo>
              </a:path>
              <a:path w="10369" h="4590">
                <a:moveTo>
                  <a:pt x="3944" y="14163"/>
                </a:moveTo>
                <a:cubicBezTo>
                  <a:pt x="3961" y="14155"/>
                  <a:pt x="3977" y="14147"/>
                  <a:pt x="3994" y="14139"/>
                </a:cubicBezTo>
              </a:path>
              <a:path w="10369" h="4590">
                <a:moveTo>
                  <a:pt x="3994" y="13990"/>
                </a:moveTo>
                <a:cubicBezTo>
                  <a:pt x="3977" y="13990"/>
                  <a:pt x="3961" y="13990"/>
                  <a:pt x="3944" y="13990"/>
                </a:cubicBezTo>
                <a:cubicBezTo>
                  <a:pt x="4016" y="14034"/>
                  <a:pt x="4107" y="14054"/>
                  <a:pt x="4043" y="14139"/>
                </a:cubicBezTo>
              </a:path>
              <a:path w="10369" h="4590">
                <a:moveTo>
                  <a:pt x="4018" y="13866"/>
                </a:moveTo>
                <a:cubicBezTo>
                  <a:pt x="4077" y="13866"/>
                  <a:pt x="4103" y="13863"/>
                  <a:pt x="4142" y="13841"/>
                </a:cubicBezTo>
              </a:path>
              <a:path w="10369" h="4590">
                <a:moveTo>
                  <a:pt x="4266" y="14362"/>
                </a:moveTo>
                <a:cubicBezTo>
                  <a:pt x="4299" y="14362"/>
                  <a:pt x="4316" y="14362"/>
                  <a:pt x="4341" y="14362"/>
                </a:cubicBezTo>
              </a:path>
              <a:path w="10369" h="4590">
                <a:moveTo>
                  <a:pt x="4192" y="14486"/>
                </a:moveTo>
                <a:cubicBezTo>
                  <a:pt x="4259" y="14486"/>
                  <a:pt x="4293" y="14482"/>
                  <a:pt x="4341" y="14461"/>
                </a:cubicBezTo>
              </a:path>
              <a:path w="10369" h="4590">
                <a:moveTo>
                  <a:pt x="4837" y="13866"/>
                </a:moveTo>
                <a:cubicBezTo>
                  <a:pt x="5032" y="13924"/>
                  <a:pt x="4863" y="13928"/>
                  <a:pt x="4837" y="14039"/>
                </a:cubicBezTo>
                <a:cubicBezTo>
                  <a:pt x="4835" y="14048"/>
                  <a:pt x="4944" y="14140"/>
                  <a:pt x="4961" y="14163"/>
                </a:cubicBezTo>
                <a:cubicBezTo>
                  <a:pt x="4873" y="14226"/>
                  <a:pt x="4841" y="14225"/>
                  <a:pt x="4738" y="14238"/>
                </a:cubicBezTo>
              </a:path>
              <a:path w="10369" h="4590">
                <a:moveTo>
                  <a:pt x="5035" y="13891"/>
                </a:moveTo>
                <a:cubicBezTo>
                  <a:pt x="5050" y="14006"/>
                  <a:pt x="5127" y="14057"/>
                  <a:pt x="5209" y="14139"/>
                </a:cubicBezTo>
                <a:cubicBezTo>
                  <a:pt x="5245" y="14173"/>
                  <a:pt x="5239" y="14186"/>
                  <a:pt x="5159" y="14188"/>
                </a:cubicBezTo>
              </a:path>
              <a:path w="10369" h="4590">
                <a:moveTo>
                  <a:pt x="5135" y="13791"/>
                </a:moveTo>
                <a:cubicBezTo>
                  <a:pt x="5246" y="13729"/>
                  <a:pt x="5354" y="13742"/>
                  <a:pt x="5482" y="13742"/>
                </a:cubicBezTo>
              </a:path>
              <a:path w="10369" h="4590">
                <a:moveTo>
                  <a:pt x="4837" y="14387"/>
                </a:moveTo>
                <a:cubicBezTo>
                  <a:pt x="4959" y="14346"/>
                  <a:pt x="5055" y="14321"/>
                  <a:pt x="5184" y="14312"/>
                </a:cubicBezTo>
              </a:path>
              <a:path w="10369" h="4590">
                <a:moveTo>
                  <a:pt x="4663" y="14759"/>
                </a:moveTo>
                <a:cubicBezTo>
                  <a:pt x="4613" y="14826"/>
                  <a:pt x="4560" y="14888"/>
                  <a:pt x="4514" y="14957"/>
                </a:cubicBezTo>
              </a:path>
              <a:path w="10369" h="4590">
                <a:moveTo>
                  <a:pt x="4961" y="14635"/>
                </a:moveTo>
                <a:cubicBezTo>
                  <a:pt x="4898" y="14698"/>
                  <a:pt x="4881" y="14708"/>
                  <a:pt x="4862" y="14759"/>
                </a:cubicBezTo>
                <a:cubicBezTo>
                  <a:pt x="4981" y="14799"/>
                  <a:pt x="5043" y="14778"/>
                  <a:pt x="5110" y="14660"/>
                </a:cubicBezTo>
                <a:cubicBezTo>
                  <a:pt x="5110" y="14625"/>
                  <a:pt x="5105" y="14607"/>
                  <a:pt x="5085" y="14585"/>
                </a:cubicBezTo>
              </a:path>
              <a:path w="10369" h="4590">
                <a:moveTo>
                  <a:pt x="5135" y="14660"/>
                </a:moveTo>
                <a:cubicBezTo>
                  <a:pt x="5175" y="14729"/>
                  <a:pt x="5299" y="14788"/>
                  <a:pt x="5383" y="14684"/>
                </a:cubicBezTo>
                <a:cubicBezTo>
                  <a:pt x="5405" y="14617"/>
                  <a:pt x="5416" y="14599"/>
                  <a:pt x="5383" y="14560"/>
                </a:cubicBezTo>
              </a:path>
              <a:path w="10369" h="4590">
                <a:moveTo>
                  <a:pt x="3721" y="15875"/>
                </a:moveTo>
                <a:lnTo>
                  <a:pt x="3721" y="15875"/>
                </a:lnTo>
              </a:path>
              <a:path w="10369" h="4590">
                <a:moveTo>
                  <a:pt x="4043" y="15429"/>
                </a:moveTo>
                <a:cubicBezTo>
                  <a:pt x="4077" y="15433"/>
                  <a:pt x="4212" y="15452"/>
                  <a:pt x="4167" y="15528"/>
                </a:cubicBezTo>
                <a:cubicBezTo>
                  <a:pt x="4109" y="15625"/>
                  <a:pt x="4022" y="15538"/>
                  <a:pt x="4167" y="15627"/>
                </a:cubicBezTo>
                <a:cubicBezTo>
                  <a:pt x="4184" y="15635"/>
                  <a:pt x="4200" y="15644"/>
                  <a:pt x="4217" y="15652"/>
                </a:cubicBezTo>
                <a:cubicBezTo>
                  <a:pt x="4189" y="15748"/>
                  <a:pt x="4119" y="15759"/>
                  <a:pt x="4018" y="15776"/>
                </a:cubicBezTo>
              </a:path>
              <a:path w="10369" h="4590">
                <a:moveTo>
                  <a:pt x="4465" y="15453"/>
                </a:moveTo>
                <a:cubicBezTo>
                  <a:pt x="4419" y="15605"/>
                  <a:pt x="4490" y="15549"/>
                  <a:pt x="4589" y="15652"/>
                </a:cubicBezTo>
                <a:cubicBezTo>
                  <a:pt x="4664" y="15731"/>
                  <a:pt x="4563" y="15752"/>
                  <a:pt x="4514" y="15776"/>
                </a:cubicBezTo>
              </a:path>
              <a:path w="10369" h="4590">
                <a:moveTo>
                  <a:pt x="4490" y="15429"/>
                </a:moveTo>
                <a:cubicBezTo>
                  <a:pt x="4587" y="15399"/>
                  <a:pt x="4661" y="15385"/>
                  <a:pt x="4762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27920" y="4419720"/>
            <a:ext cx="723960" cy="920520"/>
          </a:xfrm>
          <a:custGeom>
            <a:avLst/>
            <a:gdLst/>
            <a:ahLst/>
            <a:rect l="l" t="t" r="r" b="b"/>
            <a:pathLst>
              <a:path w="2010" h="2556">
                <a:moveTo>
                  <a:pt x="19521" y="12725"/>
                </a:moveTo>
                <a:lnTo>
                  <a:pt x="19521" y="12725"/>
                </a:lnTo>
              </a:path>
              <a:path w="2010" h="2556">
                <a:moveTo>
                  <a:pt x="20017" y="12328"/>
                </a:moveTo>
                <a:cubicBezTo>
                  <a:pt x="20082" y="12350"/>
                  <a:pt x="20097" y="12358"/>
                  <a:pt x="20141" y="12353"/>
                </a:cubicBezTo>
                <a:cubicBezTo>
                  <a:pt x="20066" y="12458"/>
                  <a:pt x="19990" y="12400"/>
                  <a:pt x="20092" y="12502"/>
                </a:cubicBezTo>
                <a:cubicBezTo>
                  <a:pt x="20170" y="12580"/>
                  <a:pt x="20203" y="12582"/>
                  <a:pt x="20191" y="12650"/>
                </a:cubicBezTo>
                <a:cubicBezTo>
                  <a:pt x="20094" y="12712"/>
                  <a:pt x="20037" y="12718"/>
                  <a:pt x="19918" y="12725"/>
                </a:cubicBezTo>
              </a:path>
              <a:path w="2010" h="2556">
                <a:moveTo>
                  <a:pt x="20340" y="12353"/>
                </a:moveTo>
                <a:cubicBezTo>
                  <a:pt x="20380" y="12454"/>
                  <a:pt x="20496" y="12472"/>
                  <a:pt x="20588" y="12526"/>
                </a:cubicBezTo>
                <a:cubicBezTo>
                  <a:pt x="20761" y="12627"/>
                  <a:pt x="20592" y="12647"/>
                  <a:pt x="20489" y="12675"/>
                </a:cubicBezTo>
              </a:path>
              <a:path w="2010" h="2556">
                <a:moveTo>
                  <a:pt x="20538" y="12328"/>
                </a:moveTo>
                <a:cubicBezTo>
                  <a:pt x="20634" y="12280"/>
                  <a:pt x="20663" y="12263"/>
                  <a:pt x="20737" y="12278"/>
                </a:cubicBezTo>
              </a:path>
              <a:path w="2010" h="2556">
                <a:moveTo>
                  <a:pt x="19546" y="13345"/>
                </a:moveTo>
                <a:cubicBezTo>
                  <a:pt x="19546" y="13403"/>
                  <a:pt x="19546" y="13411"/>
                  <a:pt x="19546" y="13444"/>
                </a:cubicBezTo>
              </a:path>
              <a:path w="2010" h="2556">
                <a:moveTo>
                  <a:pt x="20042" y="13022"/>
                </a:moveTo>
                <a:cubicBezTo>
                  <a:pt x="20125" y="13022"/>
                  <a:pt x="20189" y="13026"/>
                  <a:pt x="20265" y="12998"/>
                </a:cubicBezTo>
                <a:cubicBezTo>
                  <a:pt x="20256" y="13130"/>
                  <a:pt x="20217" y="13200"/>
                  <a:pt x="20166" y="13320"/>
                </a:cubicBezTo>
              </a:path>
              <a:path w="2010" h="2556">
                <a:moveTo>
                  <a:pt x="20538" y="13022"/>
                </a:moveTo>
                <a:cubicBezTo>
                  <a:pt x="20604" y="13022"/>
                  <a:pt x="20671" y="13022"/>
                  <a:pt x="20737" y="13022"/>
                </a:cubicBezTo>
                <a:cubicBezTo>
                  <a:pt x="20704" y="13141"/>
                  <a:pt x="20618" y="13164"/>
                  <a:pt x="20538" y="13271"/>
                </a:cubicBezTo>
                <a:cubicBezTo>
                  <a:pt x="20465" y="13370"/>
                  <a:pt x="20763" y="13320"/>
                  <a:pt x="20811" y="13320"/>
                </a:cubicBezTo>
              </a:path>
              <a:path w="2010" h="2556">
                <a:moveTo>
                  <a:pt x="21258" y="13022"/>
                </a:moveTo>
                <a:cubicBezTo>
                  <a:pt x="21156" y="13064"/>
                  <a:pt x="21129" y="13086"/>
                  <a:pt x="21059" y="13171"/>
                </a:cubicBezTo>
                <a:cubicBezTo>
                  <a:pt x="21092" y="13261"/>
                  <a:pt x="21200" y="13378"/>
                  <a:pt x="21307" y="13246"/>
                </a:cubicBezTo>
                <a:cubicBezTo>
                  <a:pt x="21385" y="13149"/>
                  <a:pt x="21315" y="13104"/>
                  <a:pt x="21258" y="13047"/>
                </a:cubicBezTo>
              </a:path>
              <a:path w="2010" h="2556">
                <a:moveTo>
                  <a:pt x="19670" y="13940"/>
                </a:moveTo>
                <a:cubicBezTo>
                  <a:pt x="19670" y="13998"/>
                  <a:pt x="19670" y="14023"/>
                  <a:pt x="19670" y="14064"/>
                </a:cubicBezTo>
              </a:path>
              <a:path w="2010" h="2556">
                <a:moveTo>
                  <a:pt x="20216" y="13742"/>
                </a:moveTo>
                <a:cubicBezTo>
                  <a:pt x="20289" y="13705"/>
                  <a:pt x="20376" y="13717"/>
                  <a:pt x="20464" y="13717"/>
                </a:cubicBezTo>
                <a:cubicBezTo>
                  <a:pt x="20454" y="13830"/>
                  <a:pt x="20361" y="13922"/>
                  <a:pt x="20290" y="14039"/>
                </a:cubicBezTo>
              </a:path>
              <a:path w="2010" h="2556">
                <a:moveTo>
                  <a:pt x="20712" y="13791"/>
                </a:moveTo>
                <a:cubicBezTo>
                  <a:pt x="20806" y="13768"/>
                  <a:pt x="20887" y="13767"/>
                  <a:pt x="20985" y="13767"/>
                </a:cubicBezTo>
                <a:cubicBezTo>
                  <a:pt x="20934" y="13881"/>
                  <a:pt x="20781" y="13932"/>
                  <a:pt x="20712" y="14039"/>
                </a:cubicBezTo>
                <a:cubicBezTo>
                  <a:pt x="20650" y="14135"/>
                  <a:pt x="20955" y="14113"/>
                  <a:pt x="20985" y="14114"/>
                </a:cubicBezTo>
              </a:path>
              <a:path w="2010" h="2556">
                <a:moveTo>
                  <a:pt x="21332" y="13791"/>
                </a:moveTo>
                <a:cubicBezTo>
                  <a:pt x="21404" y="13774"/>
                  <a:pt x="21456" y="13767"/>
                  <a:pt x="21530" y="13767"/>
                </a:cubicBezTo>
                <a:cubicBezTo>
                  <a:pt x="21442" y="13873"/>
                  <a:pt x="21336" y="13946"/>
                  <a:pt x="21233" y="14039"/>
                </a:cubicBezTo>
                <a:cubicBezTo>
                  <a:pt x="21322" y="14128"/>
                  <a:pt x="21383" y="14120"/>
                  <a:pt x="21506" y="14089"/>
                </a:cubicBezTo>
              </a:path>
              <a:path w="2010" h="2556">
                <a:moveTo>
                  <a:pt x="19745" y="14734"/>
                </a:moveTo>
                <a:cubicBezTo>
                  <a:pt x="19772" y="14762"/>
                  <a:pt x="19780" y="14776"/>
                  <a:pt x="19769" y="14808"/>
                </a:cubicBezTo>
              </a:path>
              <a:path w="2010" h="2556">
                <a:moveTo>
                  <a:pt x="20290" y="14486"/>
                </a:moveTo>
                <a:cubicBezTo>
                  <a:pt x="20377" y="14486"/>
                  <a:pt x="20452" y="14504"/>
                  <a:pt x="20538" y="14511"/>
                </a:cubicBezTo>
                <a:cubicBezTo>
                  <a:pt x="20505" y="14642"/>
                  <a:pt x="20417" y="14707"/>
                  <a:pt x="20315" y="14808"/>
                </a:cubicBezTo>
                <a:cubicBezTo>
                  <a:pt x="20307" y="14816"/>
                  <a:pt x="20298" y="14825"/>
                  <a:pt x="20290" y="14833"/>
                </a:cubicBezTo>
              </a:path>
              <a:path w="2010" h="2556">
                <a:moveTo>
                  <a:pt x="20737" y="14486"/>
                </a:moveTo>
                <a:cubicBezTo>
                  <a:pt x="20824" y="14476"/>
                  <a:pt x="20873" y="14471"/>
                  <a:pt x="20960" y="14486"/>
                </a:cubicBezTo>
                <a:cubicBezTo>
                  <a:pt x="20960" y="14604"/>
                  <a:pt x="20863" y="14628"/>
                  <a:pt x="20786" y="14734"/>
                </a:cubicBezTo>
                <a:cubicBezTo>
                  <a:pt x="20710" y="14839"/>
                  <a:pt x="20959" y="14790"/>
                  <a:pt x="21010" y="14784"/>
                </a:cubicBezTo>
              </a:path>
              <a:path w="2010" h="2556">
                <a:moveTo>
                  <a:pt x="19720" y="12700"/>
                </a:moveTo>
                <a:cubicBezTo>
                  <a:pt x="19770" y="12694"/>
                  <a:pt x="19821" y="12688"/>
                  <a:pt x="19869" y="12675"/>
                </a:cubicBezTo>
                <a:cubicBezTo>
                  <a:pt x="20054" y="12626"/>
                  <a:pt x="20248" y="12660"/>
                  <a:pt x="20439" y="12650"/>
                </a:cubicBezTo>
                <a:cubicBezTo>
                  <a:pt x="20698" y="12637"/>
                  <a:pt x="20954" y="12601"/>
                  <a:pt x="21208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90760" y="4384800"/>
            <a:ext cx="190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4192" y="12179"/>
                </a:moveTo>
                <a:cubicBezTo>
                  <a:pt x="4167" y="12229"/>
                  <a:pt x="4159" y="12245"/>
                  <a:pt x="4142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52760" y="4224240"/>
            <a:ext cx="419040" cy="169920"/>
          </a:xfrm>
          <a:custGeom>
            <a:avLst/>
            <a:gdLst/>
            <a:ahLst/>
            <a:rect l="l" t="t" r="r" b="b"/>
            <a:pathLst>
              <a:path w="1167" h="472">
                <a:moveTo>
                  <a:pt x="4738" y="11906"/>
                </a:moveTo>
                <a:cubicBezTo>
                  <a:pt x="4611" y="11962"/>
                  <a:pt x="4600" y="12039"/>
                  <a:pt x="4589" y="12179"/>
                </a:cubicBezTo>
                <a:cubicBezTo>
                  <a:pt x="4712" y="12193"/>
                  <a:pt x="4785" y="12116"/>
                  <a:pt x="4812" y="11981"/>
                </a:cubicBezTo>
                <a:cubicBezTo>
                  <a:pt x="4832" y="11880"/>
                  <a:pt x="4790" y="11887"/>
                  <a:pt x="4713" y="11857"/>
                </a:cubicBezTo>
              </a:path>
              <a:path w="1167" h="472">
                <a:moveTo>
                  <a:pt x="5184" y="11807"/>
                </a:moveTo>
                <a:cubicBezTo>
                  <a:pt x="5117" y="11830"/>
                  <a:pt x="5099" y="11835"/>
                  <a:pt x="5060" y="11857"/>
                </a:cubicBezTo>
                <a:cubicBezTo>
                  <a:pt x="5110" y="11921"/>
                  <a:pt x="5272" y="11999"/>
                  <a:pt x="5259" y="12080"/>
                </a:cubicBezTo>
                <a:cubicBezTo>
                  <a:pt x="5247" y="12160"/>
                  <a:pt x="5151" y="12134"/>
                  <a:pt x="5110" y="12129"/>
                </a:cubicBezTo>
                <a:cubicBezTo>
                  <a:pt x="5169" y="11995"/>
                  <a:pt x="5271" y="11895"/>
                  <a:pt x="5333" y="11757"/>
                </a:cubicBezTo>
                <a:cubicBezTo>
                  <a:pt x="5333" y="11749"/>
                  <a:pt x="5333" y="11741"/>
                  <a:pt x="5333" y="11733"/>
                </a:cubicBezTo>
              </a:path>
              <a:path w="1167" h="472">
                <a:moveTo>
                  <a:pt x="5755" y="11782"/>
                </a:moveTo>
                <a:cubicBezTo>
                  <a:pt x="5656" y="11745"/>
                  <a:pt x="5619" y="11765"/>
                  <a:pt x="5531" y="11832"/>
                </a:cubicBezTo>
                <a:cubicBezTo>
                  <a:pt x="5523" y="11840"/>
                  <a:pt x="5515" y="11849"/>
                  <a:pt x="5507" y="11857"/>
                </a:cubicBezTo>
                <a:cubicBezTo>
                  <a:pt x="5610" y="11857"/>
                  <a:pt x="5624" y="11861"/>
                  <a:pt x="5705" y="11807"/>
                </a:cubicBezTo>
                <a:cubicBezTo>
                  <a:pt x="5721" y="11920"/>
                  <a:pt x="5717" y="12020"/>
                  <a:pt x="5680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224240"/>
            <a:ext cx="276480" cy="347760"/>
          </a:xfrm>
          <a:custGeom>
            <a:avLst/>
            <a:gdLst/>
            <a:ahLst/>
            <a:rect l="l" t="t" r="r" b="b"/>
            <a:pathLst>
              <a:path w="770" h="968">
                <a:moveTo>
                  <a:pt x="7243" y="11733"/>
                </a:moveTo>
                <a:cubicBezTo>
                  <a:pt x="7177" y="11740"/>
                  <a:pt x="7130" y="11755"/>
                  <a:pt x="7069" y="11782"/>
                </a:cubicBezTo>
                <a:cubicBezTo>
                  <a:pt x="7127" y="11830"/>
                  <a:pt x="7262" y="11894"/>
                  <a:pt x="7268" y="11981"/>
                </a:cubicBezTo>
                <a:cubicBezTo>
                  <a:pt x="7272" y="12032"/>
                  <a:pt x="7171" y="12066"/>
                  <a:pt x="7144" y="12080"/>
                </a:cubicBezTo>
                <a:cubicBezTo>
                  <a:pt x="7080" y="11994"/>
                  <a:pt x="7185" y="11921"/>
                  <a:pt x="7243" y="11857"/>
                </a:cubicBezTo>
                <a:cubicBezTo>
                  <a:pt x="7260" y="11840"/>
                  <a:pt x="7276" y="11824"/>
                  <a:pt x="7293" y="11807"/>
                </a:cubicBezTo>
              </a:path>
              <a:path w="770" h="968">
                <a:moveTo>
                  <a:pt x="6921" y="12204"/>
                </a:moveTo>
                <a:cubicBezTo>
                  <a:pt x="7113" y="12204"/>
                  <a:pt x="7300" y="12185"/>
                  <a:pt x="7491" y="12179"/>
                </a:cubicBezTo>
                <a:cubicBezTo>
                  <a:pt x="7508" y="12179"/>
                  <a:pt x="7524" y="12179"/>
                  <a:pt x="7541" y="12179"/>
                </a:cubicBezTo>
              </a:path>
              <a:path w="770" h="968">
                <a:moveTo>
                  <a:pt x="6945" y="12378"/>
                </a:moveTo>
                <a:cubicBezTo>
                  <a:pt x="6918" y="12460"/>
                  <a:pt x="6869" y="12549"/>
                  <a:pt x="6821" y="12626"/>
                </a:cubicBezTo>
                <a:cubicBezTo>
                  <a:pt x="6805" y="12651"/>
                  <a:pt x="6788" y="12675"/>
                  <a:pt x="6772" y="12700"/>
                </a:cubicBezTo>
              </a:path>
              <a:path w="770" h="968">
                <a:moveTo>
                  <a:pt x="7144" y="12452"/>
                </a:moveTo>
                <a:cubicBezTo>
                  <a:pt x="7092" y="12519"/>
                  <a:pt x="7078" y="12541"/>
                  <a:pt x="7069" y="12626"/>
                </a:cubicBezTo>
                <a:cubicBezTo>
                  <a:pt x="7155" y="12640"/>
                  <a:pt x="7289" y="12652"/>
                  <a:pt x="7342" y="12551"/>
                </a:cubicBezTo>
                <a:cubicBezTo>
                  <a:pt x="7342" y="12477"/>
                  <a:pt x="7327" y="12440"/>
                  <a:pt x="7268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4214880"/>
            <a:ext cx="411120" cy="196920"/>
          </a:xfrm>
          <a:custGeom>
            <a:avLst/>
            <a:gdLst/>
            <a:ahLst/>
            <a:rect l="l" t="t" r="r" b="b"/>
            <a:pathLst>
              <a:path w="1142" h="547">
                <a:moveTo>
                  <a:pt x="9401" y="12204"/>
                </a:moveTo>
                <a:cubicBezTo>
                  <a:pt x="9327" y="12204"/>
                  <a:pt x="9348" y="12198"/>
                  <a:pt x="9302" y="12254"/>
                </a:cubicBezTo>
              </a:path>
              <a:path w="1142" h="547">
                <a:moveTo>
                  <a:pt x="9872" y="11782"/>
                </a:moveTo>
                <a:cubicBezTo>
                  <a:pt x="9803" y="11788"/>
                  <a:pt x="9639" y="11819"/>
                  <a:pt x="9723" y="11931"/>
                </a:cubicBezTo>
                <a:cubicBezTo>
                  <a:pt x="9750" y="11968"/>
                  <a:pt x="9940" y="12116"/>
                  <a:pt x="9847" y="12179"/>
                </a:cubicBezTo>
                <a:cubicBezTo>
                  <a:pt x="9780" y="12179"/>
                  <a:pt x="9747" y="12183"/>
                  <a:pt x="9699" y="12204"/>
                </a:cubicBezTo>
                <a:cubicBezTo>
                  <a:pt x="9644" y="12075"/>
                  <a:pt x="9765" y="12070"/>
                  <a:pt x="9847" y="11981"/>
                </a:cubicBezTo>
                <a:cubicBezTo>
                  <a:pt x="9864" y="11956"/>
                  <a:pt x="9880" y="11931"/>
                  <a:pt x="9897" y="11906"/>
                </a:cubicBezTo>
              </a:path>
              <a:path w="1142" h="547">
                <a:moveTo>
                  <a:pt x="10195" y="11782"/>
                </a:moveTo>
                <a:cubicBezTo>
                  <a:pt x="10185" y="11891"/>
                  <a:pt x="10153" y="11981"/>
                  <a:pt x="10319" y="11981"/>
                </a:cubicBezTo>
                <a:cubicBezTo>
                  <a:pt x="10352" y="11973"/>
                  <a:pt x="10385" y="11964"/>
                  <a:pt x="10418" y="11956"/>
                </a:cubicBezTo>
              </a:path>
              <a:path w="1142" h="547">
                <a:moveTo>
                  <a:pt x="10443" y="11708"/>
                </a:moveTo>
                <a:cubicBezTo>
                  <a:pt x="10380" y="11846"/>
                  <a:pt x="10343" y="11986"/>
                  <a:pt x="10294" y="12129"/>
                </a:cubicBezTo>
                <a:cubicBezTo>
                  <a:pt x="10286" y="12154"/>
                  <a:pt x="10277" y="12179"/>
                  <a:pt x="10269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13160" y="4179960"/>
            <a:ext cx="357120" cy="401400"/>
          </a:xfrm>
          <a:custGeom>
            <a:avLst/>
            <a:gdLst/>
            <a:ahLst/>
            <a:rect l="l" t="t" r="r" b="b"/>
            <a:pathLst>
              <a:path w="993" h="1117">
                <a:moveTo>
                  <a:pt x="12576" y="11633"/>
                </a:moveTo>
                <a:cubicBezTo>
                  <a:pt x="12487" y="11607"/>
                  <a:pt x="12444" y="11613"/>
                  <a:pt x="12353" y="11633"/>
                </a:cubicBezTo>
                <a:cubicBezTo>
                  <a:pt x="12389" y="11742"/>
                  <a:pt x="12471" y="11828"/>
                  <a:pt x="12502" y="11956"/>
                </a:cubicBezTo>
                <a:cubicBezTo>
                  <a:pt x="12517" y="12020"/>
                  <a:pt x="12414" y="12001"/>
                  <a:pt x="12378" y="12005"/>
                </a:cubicBezTo>
                <a:cubicBezTo>
                  <a:pt x="12447" y="11867"/>
                  <a:pt x="12550" y="11802"/>
                  <a:pt x="12675" y="11708"/>
                </a:cubicBezTo>
              </a:path>
              <a:path w="993" h="1117">
                <a:moveTo>
                  <a:pt x="12923" y="11658"/>
                </a:moveTo>
                <a:cubicBezTo>
                  <a:pt x="12834" y="11635"/>
                  <a:pt x="12773" y="11657"/>
                  <a:pt x="12750" y="11757"/>
                </a:cubicBezTo>
                <a:cubicBezTo>
                  <a:pt x="12732" y="11835"/>
                  <a:pt x="12852" y="11764"/>
                  <a:pt x="12874" y="11757"/>
                </a:cubicBezTo>
                <a:cubicBezTo>
                  <a:pt x="12882" y="11757"/>
                  <a:pt x="12890" y="11757"/>
                  <a:pt x="12898" y="11757"/>
                </a:cubicBezTo>
                <a:cubicBezTo>
                  <a:pt x="12883" y="11884"/>
                  <a:pt x="12858" y="11970"/>
                  <a:pt x="12799" y="12080"/>
                </a:cubicBezTo>
              </a:path>
              <a:path w="993" h="1117">
                <a:moveTo>
                  <a:pt x="12005" y="12229"/>
                </a:moveTo>
                <a:cubicBezTo>
                  <a:pt x="12286" y="12208"/>
                  <a:pt x="12567" y="12191"/>
                  <a:pt x="12849" y="12179"/>
                </a:cubicBezTo>
              </a:path>
              <a:path w="993" h="1117">
                <a:moveTo>
                  <a:pt x="12303" y="12378"/>
                </a:moveTo>
                <a:cubicBezTo>
                  <a:pt x="12195" y="12492"/>
                  <a:pt x="12073" y="12605"/>
                  <a:pt x="11981" y="12725"/>
                </a:cubicBezTo>
              </a:path>
              <a:path w="993" h="1117">
                <a:moveTo>
                  <a:pt x="12502" y="12402"/>
                </a:moveTo>
                <a:cubicBezTo>
                  <a:pt x="12394" y="12490"/>
                  <a:pt x="12350" y="12535"/>
                  <a:pt x="12378" y="12675"/>
                </a:cubicBezTo>
                <a:cubicBezTo>
                  <a:pt x="12471" y="12696"/>
                  <a:pt x="12591" y="12670"/>
                  <a:pt x="12626" y="12551"/>
                </a:cubicBezTo>
                <a:cubicBezTo>
                  <a:pt x="12662" y="12426"/>
                  <a:pt x="12587" y="12416"/>
                  <a:pt x="12502" y="12378"/>
                </a:cubicBezTo>
              </a:path>
              <a:path w="993" h="1117">
                <a:moveTo>
                  <a:pt x="12725" y="12378"/>
                </a:moveTo>
                <a:cubicBezTo>
                  <a:pt x="12654" y="12469"/>
                  <a:pt x="12637" y="12484"/>
                  <a:pt x="12626" y="12601"/>
                </a:cubicBezTo>
                <a:cubicBezTo>
                  <a:pt x="12718" y="12656"/>
                  <a:pt x="12840" y="12688"/>
                  <a:pt x="12923" y="12576"/>
                </a:cubicBezTo>
                <a:cubicBezTo>
                  <a:pt x="12976" y="12470"/>
                  <a:pt x="12990" y="12430"/>
                  <a:pt x="12923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5554800"/>
            <a:ext cx="936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6449" y="15429"/>
                </a:moveTo>
                <a:cubicBezTo>
                  <a:pt x="6441" y="15445"/>
                  <a:pt x="6432" y="15462"/>
                  <a:pt x="6424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63840" y="5438880"/>
            <a:ext cx="376200" cy="133200"/>
          </a:xfrm>
          <a:custGeom>
            <a:avLst/>
            <a:gdLst/>
            <a:ahLst/>
            <a:rect l="l" t="t" r="r" b="b"/>
            <a:pathLst>
              <a:path w="1043" h="373">
                <a:moveTo>
                  <a:pt x="6846" y="15180"/>
                </a:moveTo>
                <a:cubicBezTo>
                  <a:pt x="6930" y="15174"/>
                  <a:pt x="7010" y="15162"/>
                  <a:pt x="7094" y="15156"/>
                </a:cubicBezTo>
                <a:cubicBezTo>
                  <a:pt x="7070" y="15275"/>
                  <a:pt x="7010" y="15373"/>
                  <a:pt x="6945" y="15478"/>
                </a:cubicBezTo>
              </a:path>
              <a:path w="1043" h="373">
                <a:moveTo>
                  <a:pt x="7218" y="15131"/>
                </a:moveTo>
                <a:cubicBezTo>
                  <a:pt x="7265" y="15118"/>
                  <a:pt x="7397" y="15069"/>
                  <a:pt x="7392" y="15180"/>
                </a:cubicBezTo>
                <a:cubicBezTo>
                  <a:pt x="7386" y="15314"/>
                  <a:pt x="7188" y="15344"/>
                  <a:pt x="7169" y="15453"/>
                </a:cubicBezTo>
                <a:cubicBezTo>
                  <a:pt x="7154" y="15539"/>
                  <a:pt x="7331" y="15467"/>
                  <a:pt x="7417" y="15453"/>
                </a:cubicBezTo>
              </a:path>
              <a:path w="1043" h="373">
                <a:moveTo>
                  <a:pt x="7689" y="15106"/>
                </a:moveTo>
                <a:cubicBezTo>
                  <a:pt x="7647" y="15174"/>
                  <a:pt x="7503" y="15345"/>
                  <a:pt x="7640" y="15404"/>
                </a:cubicBezTo>
                <a:cubicBezTo>
                  <a:pt x="7717" y="15437"/>
                  <a:pt x="7903" y="15354"/>
                  <a:pt x="7888" y="15255"/>
                </a:cubicBezTo>
                <a:cubicBezTo>
                  <a:pt x="7871" y="15230"/>
                  <a:pt x="7855" y="15205"/>
                  <a:pt x="7838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02040" y="5510160"/>
            <a:ext cx="180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10840" y="15304"/>
                </a:moveTo>
                <a:cubicBezTo>
                  <a:pt x="10840" y="15337"/>
                  <a:pt x="10840" y="15354"/>
                  <a:pt x="10840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2960" y="5375160"/>
            <a:ext cx="384120" cy="169920"/>
          </a:xfrm>
          <a:custGeom>
            <a:avLst/>
            <a:gdLst/>
            <a:ahLst/>
            <a:rect l="l" t="t" r="r" b="b"/>
            <a:pathLst>
              <a:path w="1068" h="473">
                <a:moveTo>
                  <a:pt x="11534" y="15056"/>
                </a:moveTo>
                <a:cubicBezTo>
                  <a:pt x="11596" y="15051"/>
                  <a:pt x="11647" y="15042"/>
                  <a:pt x="11708" y="15032"/>
                </a:cubicBezTo>
                <a:cubicBezTo>
                  <a:pt x="11684" y="15150"/>
                  <a:pt x="11616" y="15245"/>
                  <a:pt x="11559" y="15354"/>
                </a:cubicBezTo>
                <a:cubicBezTo>
                  <a:pt x="11551" y="15371"/>
                  <a:pt x="11542" y="15387"/>
                  <a:pt x="11534" y="15404"/>
                </a:cubicBezTo>
              </a:path>
              <a:path w="1068" h="473">
                <a:moveTo>
                  <a:pt x="11931" y="14982"/>
                </a:moveTo>
                <a:cubicBezTo>
                  <a:pt x="11997" y="14982"/>
                  <a:pt x="12063" y="14982"/>
                  <a:pt x="12129" y="14982"/>
                </a:cubicBezTo>
                <a:cubicBezTo>
                  <a:pt x="12106" y="15089"/>
                  <a:pt x="12033" y="15138"/>
                  <a:pt x="11981" y="15230"/>
                </a:cubicBezTo>
                <a:cubicBezTo>
                  <a:pt x="11942" y="15299"/>
                  <a:pt x="12153" y="15280"/>
                  <a:pt x="12154" y="15280"/>
                </a:cubicBezTo>
              </a:path>
              <a:path w="1068" h="473">
                <a:moveTo>
                  <a:pt x="12402" y="14957"/>
                </a:moveTo>
                <a:cubicBezTo>
                  <a:pt x="12470" y="14949"/>
                  <a:pt x="12532" y="14938"/>
                  <a:pt x="12601" y="14932"/>
                </a:cubicBezTo>
                <a:cubicBezTo>
                  <a:pt x="12525" y="15030"/>
                  <a:pt x="12420" y="15114"/>
                  <a:pt x="12328" y="15205"/>
                </a:cubicBezTo>
                <a:cubicBezTo>
                  <a:pt x="12449" y="15254"/>
                  <a:pt x="12487" y="15270"/>
                  <a:pt x="12576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36960" y="5653080"/>
            <a:ext cx="1258920" cy="339840"/>
          </a:xfrm>
          <a:custGeom>
            <a:avLst/>
            <a:gdLst/>
            <a:ahLst/>
            <a:rect l="l" t="t" r="r" b="b"/>
            <a:pathLst>
              <a:path w="3498" h="944">
                <a:moveTo>
                  <a:pt x="9302" y="16173"/>
                </a:moveTo>
                <a:cubicBezTo>
                  <a:pt x="9434" y="16160"/>
                  <a:pt x="9568" y="16123"/>
                  <a:pt x="9699" y="16098"/>
                </a:cubicBezTo>
                <a:cubicBezTo>
                  <a:pt x="9774" y="16084"/>
                  <a:pt x="9998" y="16029"/>
                  <a:pt x="10071" y="16073"/>
                </a:cubicBezTo>
                <a:cubicBezTo>
                  <a:pt x="10160" y="16127"/>
                  <a:pt x="10194" y="16219"/>
                  <a:pt x="10244" y="16297"/>
                </a:cubicBezTo>
              </a:path>
              <a:path w="3498" h="944">
                <a:moveTo>
                  <a:pt x="10220" y="16024"/>
                </a:moveTo>
                <a:cubicBezTo>
                  <a:pt x="10281" y="16124"/>
                  <a:pt x="10331" y="16205"/>
                  <a:pt x="10344" y="16321"/>
                </a:cubicBezTo>
                <a:cubicBezTo>
                  <a:pt x="10249" y="16313"/>
                  <a:pt x="10169" y="16297"/>
                  <a:pt x="10071" y="16297"/>
                </a:cubicBezTo>
              </a:path>
              <a:path w="3498" h="944">
                <a:moveTo>
                  <a:pt x="9302" y="16049"/>
                </a:moveTo>
                <a:cubicBezTo>
                  <a:pt x="9249" y="16143"/>
                  <a:pt x="9196" y="16238"/>
                  <a:pt x="9128" y="16321"/>
                </a:cubicBezTo>
                <a:cubicBezTo>
                  <a:pt x="9199" y="16357"/>
                  <a:pt x="9315" y="16360"/>
                  <a:pt x="9401" y="16371"/>
                </a:cubicBezTo>
                <a:cubicBezTo>
                  <a:pt x="9418" y="16371"/>
                  <a:pt x="9434" y="16371"/>
                  <a:pt x="9451" y="16371"/>
                </a:cubicBezTo>
              </a:path>
              <a:path w="3498" h="944">
                <a:moveTo>
                  <a:pt x="8632" y="15999"/>
                </a:moveTo>
                <a:cubicBezTo>
                  <a:pt x="8610" y="15912"/>
                  <a:pt x="8534" y="15941"/>
                  <a:pt x="8483" y="15999"/>
                </a:cubicBezTo>
                <a:cubicBezTo>
                  <a:pt x="8455" y="16056"/>
                  <a:pt x="8444" y="16079"/>
                  <a:pt x="8434" y="16123"/>
                </a:cubicBezTo>
                <a:cubicBezTo>
                  <a:pt x="8557" y="16173"/>
                  <a:pt x="8557" y="16162"/>
                  <a:pt x="8682" y="16123"/>
                </a:cubicBezTo>
              </a:path>
              <a:path w="3498" h="944">
                <a:moveTo>
                  <a:pt x="8905" y="15850"/>
                </a:moveTo>
                <a:cubicBezTo>
                  <a:pt x="8864" y="15830"/>
                  <a:pt x="8858" y="15821"/>
                  <a:pt x="8830" y="15825"/>
                </a:cubicBezTo>
                <a:cubicBezTo>
                  <a:pt x="8801" y="15896"/>
                  <a:pt x="8772" y="15954"/>
                  <a:pt x="8756" y="16024"/>
                </a:cubicBezTo>
                <a:cubicBezTo>
                  <a:pt x="8885" y="16061"/>
                  <a:pt x="8860" y="15965"/>
                  <a:pt x="8930" y="15949"/>
                </a:cubicBezTo>
                <a:cubicBezTo>
                  <a:pt x="8959" y="15979"/>
                  <a:pt x="8973" y="15991"/>
                  <a:pt x="9004" y="15999"/>
                </a:cubicBezTo>
              </a:path>
              <a:path w="3498" h="944">
                <a:moveTo>
                  <a:pt x="9103" y="15925"/>
                </a:moveTo>
                <a:cubicBezTo>
                  <a:pt x="9110" y="15857"/>
                  <a:pt x="9143" y="15750"/>
                  <a:pt x="9252" y="15801"/>
                </a:cubicBezTo>
                <a:cubicBezTo>
                  <a:pt x="9337" y="15841"/>
                  <a:pt x="9330" y="15909"/>
                  <a:pt x="9302" y="15974"/>
                </a:cubicBezTo>
              </a:path>
              <a:path w="3498" h="944">
                <a:moveTo>
                  <a:pt x="9847" y="15801"/>
                </a:moveTo>
                <a:cubicBezTo>
                  <a:pt x="9764" y="15763"/>
                  <a:pt x="9696" y="15737"/>
                  <a:pt x="9649" y="15850"/>
                </a:cubicBezTo>
                <a:cubicBezTo>
                  <a:pt x="9649" y="15858"/>
                  <a:pt x="9649" y="15867"/>
                  <a:pt x="9649" y="15875"/>
                </a:cubicBezTo>
                <a:cubicBezTo>
                  <a:pt x="9752" y="15894"/>
                  <a:pt x="9792" y="15879"/>
                  <a:pt x="9847" y="15776"/>
                </a:cubicBezTo>
                <a:cubicBezTo>
                  <a:pt x="9847" y="15768"/>
                  <a:pt x="9847" y="15759"/>
                  <a:pt x="9847" y="15751"/>
                </a:cubicBezTo>
                <a:cubicBezTo>
                  <a:pt x="9866" y="15852"/>
                  <a:pt x="9916" y="15974"/>
                  <a:pt x="9823" y="16049"/>
                </a:cubicBezTo>
                <a:cubicBezTo>
                  <a:pt x="9767" y="16076"/>
                  <a:pt x="9745" y="16084"/>
                  <a:pt x="9699" y="16073"/>
                </a:cubicBezTo>
              </a:path>
              <a:path w="3498" h="944">
                <a:moveTo>
                  <a:pt x="10096" y="15701"/>
                </a:moveTo>
                <a:cubicBezTo>
                  <a:pt x="10012" y="15729"/>
                  <a:pt x="9889" y="15810"/>
                  <a:pt x="9971" y="15925"/>
                </a:cubicBezTo>
                <a:cubicBezTo>
                  <a:pt x="10039" y="16021"/>
                  <a:pt x="10141" y="15961"/>
                  <a:pt x="10170" y="15900"/>
                </a:cubicBezTo>
                <a:cubicBezTo>
                  <a:pt x="10211" y="15812"/>
                  <a:pt x="10160" y="15800"/>
                  <a:pt x="10096" y="15751"/>
                </a:cubicBezTo>
              </a:path>
              <a:path w="3498" h="944">
                <a:moveTo>
                  <a:pt x="10492" y="15900"/>
                </a:moveTo>
                <a:cubicBezTo>
                  <a:pt x="10546" y="15893"/>
                  <a:pt x="10587" y="15882"/>
                  <a:pt x="10641" y="15875"/>
                </a:cubicBezTo>
                <a:cubicBezTo>
                  <a:pt x="10616" y="15834"/>
                  <a:pt x="10507" y="15724"/>
                  <a:pt x="10443" y="15801"/>
                </a:cubicBezTo>
                <a:cubicBezTo>
                  <a:pt x="10372" y="15887"/>
                  <a:pt x="10375" y="16000"/>
                  <a:pt x="10492" y="16024"/>
                </a:cubicBezTo>
                <a:cubicBezTo>
                  <a:pt x="10517" y="16024"/>
                  <a:pt x="10542" y="16024"/>
                  <a:pt x="10567" y="16024"/>
                </a:cubicBezTo>
              </a:path>
              <a:path w="3498" h="944">
                <a:moveTo>
                  <a:pt x="10790" y="15875"/>
                </a:moveTo>
                <a:cubicBezTo>
                  <a:pt x="10790" y="15933"/>
                  <a:pt x="10790" y="15991"/>
                  <a:pt x="10790" y="16049"/>
                </a:cubicBezTo>
              </a:path>
              <a:path w="3498" h="944">
                <a:moveTo>
                  <a:pt x="10765" y="15751"/>
                </a:moveTo>
                <a:lnTo>
                  <a:pt x="10765" y="15751"/>
                </a:lnTo>
              </a:path>
              <a:path w="3498" h="944">
                <a:moveTo>
                  <a:pt x="10939" y="15701"/>
                </a:moveTo>
                <a:cubicBezTo>
                  <a:pt x="10954" y="15802"/>
                  <a:pt x="10983" y="15901"/>
                  <a:pt x="11013" y="15999"/>
                </a:cubicBezTo>
              </a:path>
              <a:path w="3498" h="944">
                <a:moveTo>
                  <a:pt x="10889" y="15850"/>
                </a:moveTo>
                <a:cubicBezTo>
                  <a:pt x="10984" y="15924"/>
                  <a:pt x="11064" y="15954"/>
                  <a:pt x="11187" y="15900"/>
                </a:cubicBezTo>
                <a:cubicBezTo>
                  <a:pt x="11292" y="15854"/>
                  <a:pt x="11280" y="15812"/>
                  <a:pt x="11261" y="15726"/>
                </a:cubicBezTo>
                <a:cubicBezTo>
                  <a:pt x="11194" y="15806"/>
                  <a:pt x="11212" y="15876"/>
                  <a:pt x="11212" y="15999"/>
                </a:cubicBezTo>
                <a:cubicBezTo>
                  <a:pt x="11238" y="15869"/>
                  <a:pt x="11261" y="15859"/>
                  <a:pt x="11336" y="15974"/>
                </a:cubicBezTo>
                <a:cubicBezTo>
                  <a:pt x="11360" y="16022"/>
                  <a:pt x="11368" y="16036"/>
                  <a:pt x="11361" y="16073"/>
                </a:cubicBezTo>
              </a:path>
              <a:path w="3498" h="944">
                <a:moveTo>
                  <a:pt x="11485" y="15925"/>
                </a:moveTo>
                <a:cubicBezTo>
                  <a:pt x="11546" y="15886"/>
                  <a:pt x="11640" y="15863"/>
                  <a:pt x="11609" y="15801"/>
                </a:cubicBezTo>
                <a:cubicBezTo>
                  <a:pt x="11471" y="15813"/>
                  <a:pt x="11472" y="15837"/>
                  <a:pt x="11460" y="15974"/>
                </a:cubicBezTo>
                <a:cubicBezTo>
                  <a:pt x="11552" y="15995"/>
                  <a:pt x="11641" y="15859"/>
                  <a:pt x="11708" y="15925"/>
                </a:cubicBezTo>
                <a:cubicBezTo>
                  <a:pt x="11708" y="15941"/>
                  <a:pt x="11708" y="15958"/>
                  <a:pt x="11708" y="15974"/>
                </a:cubicBezTo>
                <a:cubicBezTo>
                  <a:pt x="11768" y="15855"/>
                  <a:pt x="11803" y="15799"/>
                  <a:pt x="11931" y="15776"/>
                </a:cubicBezTo>
              </a:path>
              <a:path w="3498" h="944">
                <a:moveTo>
                  <a:pt x="10964" y="16173"/>
                </a:moveTo>
                <a:cubicBezTo>
                  <a:pt x="10955" y="16271"/>
                  <a:pt x="10932" y="16326"/>
                  <a:pt x="10964" y="16421"/>
                </a:cubicBezTo>
                <a:cubicBezTo>
                  <a:pt x="11059" y="16442"/>
                  <a:pt x="11151" y="16413"/>
                  <a:pt x="11187" y="16297"/>
                </a:cubicBezTo>
                <a:cubicBezTo>
                  <a:pt x="11187" y="16272"/>
                  <a:pt x="11187" y="16247"/>
                  <a:pt x="11187" y="16222"/>
                </a:cubicBezTo>
                <a:cubicBezTo>
                  <a:pt x="11227" y="16332"/>
                  <a:pt x="11257" y="16425"/>
                  <a:pt x="11336" y="16297"/>
                </a:cubicBezTo>
                <a:cubicBezTo>
                  <a:pt x="11380" y="16226"/>
                  <a:pt x="11335" y="16221"/>
                  <a:pt x="11286" y="16173"/>
                </a:cubicBezTo>
              </a:path>
              <a:path w="3498" h="944">
                <a:moveTo>
                  <a:pt x="11559" y="16197"/>
                </a:moveTo>
                <a:cubicBezTo>
                  <a:pt x="11446" y="16249"/>
                  <a:pt x="11393" y="16264"/>
                  <a:pt x="11460" y="16371"/>
                </a:cubicBezTo>
                <a:cubicBezTo>
                  <a:pt x="11560" y="16371"/>
                  <a:pt x="11564" y="16338"/>
                  <a:pt x="11584" y="16247"/>
                </a:cubicBezTo>
                <a:cubicBezTo>
                  <a:pt x="11635" y="16348"/>
                  <a:pt x="11659" y="16391"/>
                  <a:pt x="11733" y="16272"/>
                </a:cubicBezTo>
                <a:cubicBezTo>
                  <a:pt x="11741" y="16255"/>
                  <a:pt x="11749" y="16239"/>
                  <a:pt x="11757" y="16222"/>
                </a:cubicBezTo>
                <a:cubicBezTo>
                  <a:pt x="11796" y="16319"/>
                  <a:pt x="11835" y="16378"/>
                  <a:pt x="11906" y="16247"/>
                </a:cubicBezTo>
                <a:cubicBezTo>
                  <a:pt x="11931" y="16174"/>
                  <a:pt x="11939" y="16150"/>
                  <a:pt x="11931" y="16098"/>
                </a:cubicBezTo>
                <a:cubicBezTo>
                  <a:pt x="11923" y="16260"/>
                  <a:pt x="11926" y="16438"/>
                  <a:pt x="11881" y="16594"/>
                </a:cubicBezTo>
                <a:cubicBezTo>
                  <a:pt x="11873" y="16611"/>
                  <a:pt x="11865" y="16627"/>
                  <a:pt x="11857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9160" y="6180120"/>
            <a:ext cx="1800" cy="27000"/>
          </a:xfrm>
          <a:custGeom>
            <a:avLst/>
            <a:gdLst/>
            <a:ahLst/>
            <a:rect l="l" t="t" r="r" b="b"/>
            <a:pathLst>
              <a:path w="1" h="75">
                <a:moveTo>
                  <a:pt x="5333" y="17165"/>
                </a:moveTo>
                <a:cubicBezTo>
                  <a:pt x="5333" y="17206"/>
                  <a:pt x="5333" y="17214"/>
                  <a:pt x="5333" y="172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1800" y="5973840"/>
            <a:ext cx="295200" cy="206280"/>
          </a:xfrm>
          <a:custGeom>
            <a:avLst/>
            <a:gdLst/>
            <a:ahLst/>
            <a:rect l="l" t="t" r="r" b="b"/>
            <a:pathLst>
              <a:path w="819" h="572">
                <a:moveTo>
                  <a:pt x="5779" y="16793"/>
                </a:moveTo>
                <a:cubicBezTo>
                  <a:pt x="5855" y="16780"/>
                  <a:pt x="6009" y="16756"/>
                  <a:pt x="5928" y="16892"/>
                </a:cubicBezTo>
                <a:cubicBezTo>
                  <a:pt x="5877" y="16944"/>
                  <a:pt x="5858" y="16962"/>
                  <a:pt x="5804" y="16966"/>
                </a:cubicBezTo>
                <a:cubicBezTo>
                  <a:pt x="5796" y="16966"/>
                  <a:pt x="5787" y="16966"/>
                  <a:pt x="5779" y="16966"/>
                </a:cubicBezTo>
                <a:cubicBezTo>
                  <a:pt x="5859" y="16986"/>
                  <a:pt x="6063" y="16980"/>
                  <a:pt x="5978" y="17115"/>
                </a:cubicBezTo>
                <a:cubicBezTo>
                  <a:pt x="5941" y="17173"/>
                  <a:pt x="5812" y="17161"/>
                  <a:pt x="5755" y="17165"/>
                </a:cubicBezTo>
              </a:path>
              <a:path w="819" h="572">
                <a:moveTo>
                  <a:pt x="6226" y="16694"/>
                </a:moveTo>
                <a:cubicBezTo>
                  <a:pt x="6194" y="16820"/>
                  <a:pt x="6297" y="16842"/>
                  <a:pt x="6375" y="16942"/>
                </a:cubicBezTo>
                <a:cubicBezTo>
                  <a:pt x="6457" y="17048"/>
                  <a:pt x="6293" y="17068"/>
                  <a:pt x="6226" y="17090"/>
                </a:cubicBezTo>
              </a:path>
              <a:path w="819" h="572">
                <a:moveTo>
                  <a:pt x="6350" y="16619"/>
                </a:moveTo>
                <a:cubicBezTo>
                  <a:pt x="6456" y="16592"/>
                  <a:pt x="6496" y="16584"/>
                  <a:pt x="6573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14760" y="6089760"/>
            <a:ext cx="17280" cy="46080"/>
          </a:xfrm>
          <a:custGeom>
            <a:avLst/>
            <a:gdLst/>
            <a:ahLst/>
            <a:rect l="l" t="t" r="r" b="b"/>
            <a:pathLst>
              <a:path w="50" h="125">
                <a:moveTo>
                  <a:pt x="7590" y="16917"/>
                </a:moveTo>
                <a:cubicBezTo>
                  <a:pt x="7567" y="16984"/>
                  <a:pt x="7562" y="17002"/>
                  <a:pt x="754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7960" y="5911920"/>
            <a:ext cx="457200" cy="169920"/>
          </a:xfrm>
          <a:custGeom>
            <a:avLst/>
            <a:gdLst/>
            <a:ahLst/>
            <a:rect l="l" t="t" r="r" b="b"/>
            <a:pathLst>
              <a:path w="1266" h="472">
                <a:moveTo>
                  <a:pt x="7913" y="16446"/>
                </a:moveTo>
                <a:cubicBezTo>
                  <a:pt x="8006" y="16446"/>
                  <a:pt x="8072" y="16445"/>
                  <a:pt x="8161" y="16421"/>
                </a:cubicBezTo>
                <a:cubicBezTo>
                  <a:pt x="8145" y="16574"/>
                  <a:pt x="8077" y="16656"/>
                  <a:pt x="8012" y="16793"/>
                </a:cubicBezTo>
                <a:cubicBezTo>
                  <a:pt x="7992" y="16853"/>
                  <a:pt x="7993" y="16868"/>
                  <a:pt x="7962" y="16892"/>
                </a:cubicBezTo>
              </a:path>
              <a:path w="1266" h="472">
                <a:moveTo>
                  <a:pt x="8434" y="16520"/>
                </a:moveTo>
                <a:cubicBezTo>
                  <a:pt x="8504" y="16511"/>
                  <a:pt x="8517" y="16503"/>
                  <a:pt x="8582" y="16520"/>
                </a:cubicBezTo>
                <a:cubicBezTo>
                  <a:pt x="8614" y="16662"/>
                  <a:pt x="8524" y="16730"/>
                  <a:pt x="8409" y="16818"/>
                </a:cubicBezTo>
                <a:cubicBezTo>
                  <a:pt x="8216" y="16965"/>
                  <a:pt x="8592" y="16858"/>
                  <a:pt x="8657" y="16842"/>
                </a:cubicBezTo>
              </a:path>
              <a:path w="1266" h="472">
                <a:moveTo>
                  <a:pt x="9004" y="16495"/>
                </a:moveTo>
                <a:cubicBezTo>
                  <a:pt x="8888" y="16559"/>
                  <a:pt x="8815" y="16643"/>
                  <a:pt x="8830" y="16793"/>
                </a:cubicBezTo>
                <a:cubicBezTo>
                  <a:pt x="8846" y="16959"/>
                  <a:pt x="9031" y="16893"/>
                  <a:pt x="9103" y="16818"/>
                </a:cubicBezTo>
                <a:cubicBezTo>
                  <a:pt x="9198" y="16718"/>
                  <a:pt x="9177" y="16630"/>
                  <a:pt x="9128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43200" y="6072120"/>
            <a:ext cx="9720" cy="367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0145" y="16867"/>
                </a:moveTo>
                <a:cubicBezTo>
                  <a:pt x="10126" y="16925"/>
                  <a:pt x="10117" y="16931"/>
                  <a:pt x="10120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68840" y="5929200"/>
            <a:ext cx="249120" cy="162000"/>
          </a:xfrm>
          <a:custGeom>
            <a:avLst/>
            <a:gdLst/>
            <a:ahLst/>
            <a:rect l="l" t="t" r="r" b="b"/>
            <a:pathLst>
              <a:path w="695" h="448">
                <a:moveTo>
                  <a:pt x="10468" y="16495"/>
                </a:moveTo>
                <a:cubicBezTo>
                  <a:pt x="10546" y="16486"/>
                  <a:pt x="10635" y="16450"/>
                  <a:pt x="10716" y="16470"/>
                </a:cubicBezTo>
                <a:cubicBezTo>
                  <a:pt x="10830" y="16497"/>
                  <a:pt x="10748" y="16656"/>
                  <a:pt x="10716" y="16718"/>
                </a:cubicBezTo>
                <a:cubicBezTo>
                  <a:pt x="10672" y="16783"/>
                  <a:pt x="10661" y="16798"/>
                  <a:pt x="10641" y="16842"/>
                </a:cubicBezTo>
              </a:path>
              <a:path w="695" h="448">
                <a:moveTo>
                  <a:pt x="10840" y="16545"/>
                </a:moveTo>
                <a:cubicBezTo>
                  <a:pt x="10916" y="16502"/>
                  <a:pt x="10955" y="16484"/>
                  <a:pt x="11038" y="16470"/>
                </a:cubicBezTo>
                <a:cubicBezTo>
                  <a:pt x="11130" y="16516"/>
                  <a:pt x="11056" y="16618"/>
                  <a:pt x="11013" y="16694"/>
                </a:cubicBezTo>
                <a:cubicBezTo>
                  <a:pt x="10963" y="16783"/>
                  <a:pt x="10879" y="16839"/>
                  <a:pt x="10815" y="16917"/>
                </a:cubicBezTo>
                <a:cubicBezTo>
                  <a:pt x="10937" y="16917"/>
                  <a:pt x="11045" y="16921"/>
                  <a:pt x="11162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67160" y="6072120"/>
            <a:ext cx="17640" cy="270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2179" y="16867"/>
                </a:moveTo>
                <a:cubicBezTo>
                  <a:pt x="12157" y="16911"/>
                  <a:pt x="12154" y="16923"/>
                  <a:pt x="12129" y="169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1000" y="5919840"/>
            <a:ext cx="482760" cy="17136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12477" y="16594"/>
                </a:moveTo>
                <a:cubicBezTo>
                  <a:pt x="12559" y="16558"/>
                  <a:pt x="12641" y="16538"/>
                  <a:pt x="12725" y="16520"/>
                </a:cubicBezTo>
                <a:cubicBezTo>
                  <a:pt x="12733" y="16520"/>
                  <a:pt x="12742" y="16520"/>
                  <a:pt x="12750" y="16520"/>
                </a:cubicBezTo>
                <a:cubicBezTo>
                  <a:pt x="12742" y="16639"/>
                  <a:pt x="12718" y="16763"/>
                  <a:pt x="12675" y="16867"/>
                </a:cubicBezTo>
                <a:cubicBezTo>
                  <a:pt x="12667" y="16875"/>
                  <a:pt x="12658" y="16884"/>
                  <a:pt x="12650" y="16892"/>
                </a:cubicBezTo>
              </a:path>
              <a:path w="1340" h="472">
                <a:moveTo>
                  <a:pt x="13022" y="16470"/>
                </a:moveTo>
                <a:cubicBezTo>
                  <a:pt x="13097" y="16470"/>
                  <a:pt x="13171" y="16470"/>
                  <a:pt x="13246" y="16470"/>
                </a:cubicBezTo>
                <a:cubicBezTo>
                  <a:pt x="13265" y="16600"/>
                  <a:pt x="13134" y="16663"/>
                  <a:pt x="13047" y="16768"/>
                </a:cubicBezTo>
                <a:cubicBezTo>
                  <a:pt x="12929" y="16909"/>
                  <a:pt x="13019" y="16917"/>
                  <a:pt x="13146" y="16917"/>
                </a:cubicBezTo>
              </a:path>
              <a:path w="1340" h="472">
                <a:moveTo>
                  <a:pt x="13519" y="16495"/>
                </a:moveTo>
                <a:cubicBezTo>
                  <a:pt x="13593" y="16458"/>
                  <a:pt x="13634" y="16446"/>
                  <a:pt x="13717" y="16446"/>
                </a:cubicBezTo>
                <a:cubicBezTo>
                  <a:pt x="13706" y="16545"/>
                  <a:pt x="13668" y="16646"/>
                  <a:pt x="13593" y="16718"/>
                </a:cubicBezTo>
                <a:cubicBezTo>
                  <a:pt x="13528" y="16762"/>
                  <a:pt x="13509" y="16768"/>
                  <a:pt x="13494" y="16818"/>
                </a:cubicBezTo>
                <a:cubicBezTo>
                  <a:pt x="13587" y="16896"/>
                  <a:pt x="13664" y="16861"/>
                  <a:pt x="13791" y="16842"/>
                </a:cubicBezTo>
                <a:cubicBezTo>
                  <a:pt x="13799" y="16842"/>
                  <a:pt x="13808" y="16842"/>
                  <a:pt x="13816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35080" y="6303960"/>
            <a:ext cx="216000" cy="312840"/>
          </a:xfrm>
          <a:custGeom>
            <a:avLst/>
            <a:gdLst/>
            <a:ahLst/>
            <a:rect l="l" t="t" r="r" b="b"/>
            <a:pathLst>
              <a:path w="597" h="869">
                <a:moveTo>
                  <a:pt x="5829" y="17537"/>
                </a:moveTo>
                <a:cubicBezTo>
                  <a:pt x="5898" y="17531"/>
                  <a:pt x="5960" y="17520"/>
                  <a:pt x="6028" y="17512"/>
                </a:cubicBezTo>
                <a:cubicBezTo>
                  <a:pt x="6056" y="17600"/>
                  <a:pt x="6003" y="17675"/>
                  <a:pt x="5953" y="17760"/>
                </a:cubicBezTo>
              </a:path>
              <a:path w="597" h="869">
                <a:moveTo>
                  <a:pt x="5680" y="17909"/>
                </a:moveTo>
                <a:cubicBezTo>
                  <a:pt x="5821" y="17883"/>
                  <a:pt x="5955" y="17847"/>
                  <a:pt x="6102" y="17835"/>
                </a:cubicBezTo>
                <a:cubicBezTo>
                  <a:pt x="6127" y="17835"/>
                  <a:pt x="6151" y="17835"/>
                  <a:pt x="6176" y="17835"/>
                </a:cubicBezTo>
              </a:path>
              <a:path w="597" h="869">
                <a:moveTo>
                  <a:pt x="5655" y="18058"/>
                </a:moveTo>
                <a:cubicBezTo>
                  <a:pt x="5750" y="18058"/>
                  <a:pt x="5867" y="18027"/>
                  <a:pt x="5854" y="18157"/>
                </a:cubicBezTo>
                <a:cubicBezTo>
                  <a:pt x="5847" y="18226"/>
                  <a:pt x="5652" y="18284"/>
                  <a:pt x="5680" y="18355"/>
                </a:cubicBezTo>
                <a:cubicBezTo>
                  <a:pt x="5735" y="18383"/>
                  <a:pt x="5758" y="18391"/>
                  <a:pt x="5804" y="18380"/>
                </a:cubicBezTo>
              </a:path>
              <a:path w="597" h="869">
                <a:moveTo>
                  <a:pt x="6052" y="18132"/>
                </a:moveTo>
                <a:cubicBezTo>
                  <a:pt x="5991" y="18171"/>
                  <a:pt x="5967" y="18195"/>
                  <a:pt x="5928" y="18256"/>
                </a:cubicBezTo>
                <a:cubicBezTo>
                  <a:pt x="5984" y="18312"/>
                  <a:pt x="6086" y="18324"/>
                  <a:pt x="6176" y="18281"/>
                </a:cubicBezTo>
                <a:cubicBezTo>
                  <a:pt x="6241" y="18250"/>
                  <a:pt x="6298" y="18167"/>
                  <a:pt x="6226" y="18107"/>
                </a:cubicBezTo>
                <a:cubicBezTo>
                  <a:pt x="6201" y="18091"/>
                  <a:pt x="6177" y="18074"/>
                  <a:pt x="6152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03680" y="6340320"/>
            <a:ext cx="420480" cy="152640"/>
          </a:xfrm>
          <a:custGeom>
            <a:avLst/>
            <a:gdLst/>
            <a:ahLst/>
            <a:rect l="l" t="t" r="r" b="b"/>
            <a:pathLst>
              <a:path w="1166" h="423">
                <a:moveTo>
                  <a:pt x="7789" y="18033"/>
                </a:moveTo>
                <a:lnTo>
                  <a:pt x="7789" y="18033"/>
                </a:lnTo>
              </a:path>
              <a:path w="1166" h="423">
                <a:moveTo>
                  <a:pt x="7938" y="17636"/>
                </a:moveTo>
                <a:cubicBezTo>
                  <a:pt x="8006" y="17636"/>
                  <a:pt x="8193" y="17594"/>
                  <a:pt x="8210" y="17686"/>
                </a:cubicBezTo>
                <a:cubicBezTo>
                  <a:pt x="8227" y="17776"/>
                  <a:pt x="8155" y="17926"/>
                  <a:pt x="8111" y="18008"/>
                </a:cubicBezTo>
                <a:cubicBezTo>
                  <a:pt x="8103" y="18016"/>
                  <a:pt x="8094" y="18025"/>
                  <a:pt x="8086" y="18033"/>
                </a:cubicBezTo>
              </a:path>
              <a:path w="1166" h="423">
                <a:moveTo>
                  <a:pt x="8334" y="17636"/>
                </a:moveTo>
                <a:cubicBezTo>
                  <a:pt x="8392" y="17636"/>
                  <a:pt x="8450" y="17636"/>
                  <a:pt x="8508" y="17636"/>
                </a:cubicBezTo>
                <a:cubicBezTo>
                  <a:pt x="8521" y="17752"/>
                  <a:pt x="8446" y="17817"/>
                  <a:pt x="8359" y="17909"/>
                </a:cubicBezTo>
                <a:cubicBezTo>
                  <a:pt x="8334" y="17934"/>
                  <a:pt x="8326" y="17942"/>
                  <a:pt x="8310" y="17959"/>
                </a:cubicBezTo>
                <a:cubicBezTo>
                  <a:pt x="8417" y="17994"/>
                  <a:pt x="8475" y="17970"/>
                  <a:pt x="8582" y="17934"/>
                </a:cubicBezTo>
              </a:path>
              <a:path w="1166" h="423">
                <a:moveTo>
                  <a:pt x="8880" y="17611"/>
                </a:moveTo>
                <a:cubicBezTo>
                  <a:pt x="8785" y="17681"/>
                  <a:pt x="8688" y="17748"/>
                  <a:pt x="8706" y="17884"/>
                </a:cubicBezTo>
                <a:cubicBezTo>
                  <a:pt x="8718" y="17973"/>
                  <a:pt x="8849" y="17986"/>
                  <a:pt x="8905" y="17934"/>
                </a:cubicBezTo>
                <a:cubicBezTo>
                  <a:pt x="8964" y="17879"/>
                  <a:pt x="8980" y="17701"/>
                  <a:pt x="8930" y="17636"/>
                </a:cubicBezTo>
                <a:cubicBezTo>
                  <a:pt x="8913" y="17628"/>
                  <a:pt x="8897" y="17619"/>
                  <a:pt x="8880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71920" y="6286680"/>
            <a:ext cx="330120" cy="357120"/>
          </a:xfrm>
          <a:custGeom>
            <a:avLst/>
            <a:gdLst/>
            <a:ahLst/>
            <a:rect l="l" t="t" r="r" b="b"/>
            <a:pathLst>
              <a:path w="919" h="994">
                <a:moveTo>
                  <a:pt x="10244" y="17487"/>
                </a:moveTo>
                <a:cubicBezTo>
                  <a:pt x="10319" y="17519"/>
                  <a:pt x="10404" y="17512"/>
                  <a:pt x="10492" y="17512"/>
                </a:cubicBezTo>
                <a:cubicBezTo>
                  <a:pt x="10435" y="17619"/>
                  <a:pt x="10354" y="17701"/>
                  <a:pt x="10294" y="17810"/>
                </a:cubicBezTo>
              </a:path>
              <a:path w="919" h="994">
                <a:moveTo>
                  <a:pt x="10666" y="17487"/>
                </a:moveTo>
                <a:cubicBezTo>
                  <a:pt x="10723" y="17477"/>
                  <a:pt x="10745" y="17472"/>
                  <a:pt x="10790" y="17487"/>
                </a:cubicBezTo>
                <a:cubicBezTo>
                  <a:pt x="10807" y="17592"/>
                  <a:pt x="10701" y="17638"/>
                  <a:pt x="10616" y="17711"/>
                </a:cubicBezTo>
                <a:cubicBezTo>
                  <a:pt x="10600" y="17727"/>
                  <a:pt x="10583" y="17744"/>
                  <a:pt x="10567" y="17760"/>
                </a:cubicBezTo>
                <a:cubicBezTo>
                  <a:pt x="10636" y="17812"/>
                  <a:pt x="10709" y="17779"/>
                  <a:pt x="10790" y="17760"/>
                </a:cubicBezTo>
              </a:path>
              <a:path w="919" h="994">
                <a:moveTo>
                  <a:pt x="10244" y="17959"/>
                </a:moveTo>
                <a:cubicBezTo>
                  <a:pt x="10389" y="17914"/>
                  <a:pt x="10540" y="17876"/>
                  <a:pt x="10691" y="17859"/>
                </a:cubicBezTo>
                <a:cubicBezTo>
                  <a:pt x="10757" y="17859"/>
                  <a:pt x="10774" y="17859"/>
                  <a:pt x="10815" y="17859"/>
                </a:cubicBezTo>
              </a:path>
              <a:path w="919" h="994">
                <a:moveTo>
                  <a:pt x="10195" y="18157"/>
                </a:moveTo>
                <a:cubicBezTo>
                  <a:pt x="10104" y="18258"/>
                  <a:pt x="10018" y="18358"/>
                  <a:pt x="9922" y="18455"/>
                </a:cubicBezTo>
              </a:path>
              <a:path w="919" h="994">
                <a:moveTo>
                  <a:pt x="10443" y="18107"/>
                </a:moveTo>
                <a:cubicBezTo>
                  <a:pt x="10410" y="18156"/>
                  <a:pt x="10240" y="18358"/>
                  <a:pt x="10418" y="18380"/>
                </a:cubicBezTo>
                <a:cubicBezTo>
                  <a:pt x="10509" y="18391"/>
                  <a:pt x="10631" y="18304"/>
                  <a:pt x="10616" y="18207"/>
                </a:cubicBezTo>
                <a:cubicBezTo>
                  <a:pt x="10604" y="18125"/>
                  <a:pt x="10528" y="18121"/>
                  <a:pt x="10468" y="18107"/>
                </a:cubicBezTo>
              </a:path>
              <a:path w="919" h="994">
                <a:moveTo>
                  <a:pt x="10666" y="18157"/>
                </a:moveTo>
                <a:cubicBezTo>
                  <a:pt x="10638" y="18259"/>
                  <a:pt x="10614" y="18324"/>
                  <a:pt x="10740" y="18355"/>
                </a:cubicBezTo>
                <a:cubicBezTo>
                  <a:pt x="10828" y="18377"/>
                  <a:pt x="10850" y="18272"/>
                  <a:pt x="10840" y="18207"/>
                </a:cubicBezTo>
                <a:cubicBezTo>
                  <a:pt x="10815" y="18132"/>
                  <a:pt x="10807" y="18108"/>
                  <a:pt x="10790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29080" y="6527880"/>
            <a:ext cx="972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2328" y="18132"/>
                </a:moveTo>
                <a:cubicBezTo>
                  <a:pt x="12320" y="18149"/>
                  <a:pt x="12311" y="18165"/>
                  <a:pt x="12303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62640" y="6367320"/>
            <a:ext cx="411120" cy="177840"/>
          </a:xfrm>
          <a:custGeom>
            <a:avLst/>
            <a:gdLst/>
            <a:ahLst/>
            <a:rect l="l" t="t" r="r" b="b"/>
            <a:pathLst>
              <a:path w="1142" h="497">
                <a:moveTo>
                  <a:pt x="12675" y="17810"/>
                </a:moveTo>
                <a:cubicBezTo>
                  <a:pt x="12749" y="17810"/>
                  <a:pt x="12824" y="17810"/>
                  <a:pt x="12898" y="17810"/>
                </a:cubicBezTo>
                <a:cubicBezTo>
                  <a:pt x="12890" y="17949"/>
                  <a:pt x="12831" y="18009"/>
                  <a:pt x="12799" y="18132"/>
                </a:cubicBezTo>
                <a:cubicBezTo>
                  <a:pt x="12799" y="18149"/>
                  <a:pt x="12799" y="18165"/>
                  <a:pt x="12799" y="18182"/>
                </a:cubicBezTo>
              </a:path>
              <a:path w="1142" h="497">
                <a:moveTo>
                  <a:pt x="13171" y="17735"/>
                </a:moveTo>
                <a:cubicBezTo>
                  <a:pt x="13220" y="17717"/>
                  <a:pt x="13345" y="17680"/>
                  <a:pt x="13345" y="17785"/>
                </a:cubicBezTo>
                <a:cubicBezTo>
                  <a:pt x="13345" y="17876"/>
                  <a:pt x="13244" y="17993"/>
                  <a:pt x="13196" y="18058"/>
                </a:cubicBezTo>
                <a:cubicBezTo>
                  <a:pt x="13133" y="18144"/>
                  <a:pt x="13377" y="18040"/>
                  <a:pt x="13395" y="18033"/>
                </a:cubicBezTo>
              </a:path>
              <a:path w="1142" h="497">
                <a:moveTo>
                  <a:pt x="13667" y="17735"/>
                </a:moveTo>
                <a:cubicBezTo>
                  <a:pt x="13742" y="17699"/>
                  <a:pt x="13741" y="17692"/>
                  <a:pt x="13816" y="17711"/>
                </a:cubicBezTo>
                <a:cubicBezTo>
                  <a:pt x="13732" y="17820"/>
                  <a:pt x="13645" y="17918"/>
                  <a:pt x="13568" y="18033"/>
                </a:cubicBezTo>
                <a:cubicBezTo>
                  <a:pt x="13655" y="18119"/>
                  <a:pt x="13629" y="18091"/>
                  <a:pt x="13767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27800" y="5581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354" y="15503"/>
                </a:moveTo>
                <a:lnTo>
                  <a:pt x="15354" y="155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99080" y="5464080"/>
            <a:ext cx="214200" cy="100080"/>
          </a:xfrm>
          <a:custGeom>
            <a:avLst/>
            <a:gdLst/>
            <a:ahLst/>
            <a:rect l="l" t="t" r="r" b="b"/>
            <a:pathLst>
              <a:path w="596" h="274">
                <a:moveTo>
                  <a:pt x="15553" y="15230"/>
                </a:moveTo>
                <a:cubicBezTo>
                  <a:pt x="15671" y="15222"/>
                  <a:pt x="15687" y="15205"/>
                  <a:pt x="15776" y="15255"/>
                </a:cubicBezTo>
                <a:cubicBezTo>
                  <a:pt x="15705" y="15319"/>
                  <a:pt x="15663" y="15377"/>
                  <a:pt x="15602" y="15453"/>
                </a:cubicBezTo>
              </a:path>
              <a:path w="596" h="274">
                <a:moveTo>
                  <a:pt x="15949" y="15180"/>
                </a:moveTo>
                <a:cubicBezTo>
                  <a:pt x="16024" y="15180"/>
                  <a:pt x="16085" y="15178"/>
                  <a:pt x="16148" y="15205"/>
                </a:cubicBezTo>
                <a:cubicBezTo>
                  <a:pt x="16102" y="15296"/>
                  <a:pt x="16015" y="15349"/>
                  <a:pt x="15925" y="15404"/>
                </a:cubicBezTo>
                <a:cubicBezTo>
                  <a:pt x="16021" y="15452"/>
                  <a:pt x="16052" y="15469"/>
                  <a:pt x="16123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Unit 2 </a:t>
            </a:r>
            <a:r>
              <a:rPr b="1" lang="en-US" sz="4800" spc="-1" strike="noStrike">
                <a:solidFill>
                  <a:srgbClr val="f6fcac"/>
                </a:solidFill>
                <a:latin typeface="Palatino"/>
              </a:rPr>
              <a:t>	</a:t>
            </a:r>
            <a:endParaRPr b="1" lang="en-US" sz="4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765160" y="3941640"/>
            <a:ext cx="49957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Palatino"/>
              </a:rPr>
              <a:t>Finding Equivalent Ratio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Vocabulary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Ratio - Relationship of one numb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entists recommend Crest over Colgate 3 to 1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3 to 1 is a ratio which we would write 3:1 - this mea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For every 3 dentists who recommend Crest, there is one dentist who recommends Col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0" i="1" lang="en-US" sz="20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Ratios can also be written as fract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3:1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can be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3/1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To find an equivalent ratio, you write as a fraction and then multiply by a fraction equally one (remember what ever you do to the numerator you must do to the denominator to ensure you are keeping the fraction (ratio) equivalent)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x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6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  This means that for every 6 dentists who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591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     2    recommend Crest, 2 will recommend Colgat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44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rite each ratio below as a fraction, and then determine at least one equivalent ratio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2590920"/>
          <a:ext cx="6858000" cy="32511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v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: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: 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: 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3616200" y="3419640"/>
            <a:ext cx="339840" cy="545760"/>
          </a:xfrm>
          <a:custGeom>
            <a:avLst/>
            <a:gdLst/>
            <a:ahLst/>
            <a:rect l="l" t="t" r="r" b="b"/>
            <a:pathLst>
              <a:path w="943" h="1514">
                <a:moveTo>
                  <a:pt x="10319" y="9723"/>
                </a:moveTo>
                <a:cubicBezTo>
                  <a:pt x="10409" y="9573"/>
                  <a:pt x="10451" y="9551"/>
                  <a:pt x="10616" y="9500"/>
                </a:cubicBezTo>
                <a:cubicBezTo>
                  <a:pt x="10686" y="9656"/>
                  <a:pt x="10653" y="9756"/>
                  <a:pt x="10517" y="9872"/>
                </a:cubicBezTo>
                <a:cubicBezTo>
                  <a:pt x="10418" y="9956"/>
                  <a:pt x="10338" y="9962"/>
                  <a:pt x="10220" y="9971"/>
                </a:cubicBezTo>
                <a:cubicBezTo>
                  <a:pt x="10281" y="9822"/>
                  <a:pt x="10323" y="9800"/>
                  <a:pt x="10492" y="9823"/>
                </a:cubicBezTo>
                <a:cubicBezTo>
                  <a:pt x="10594" y="9837"/>
                  <a:pt x="10633" y="9854"/>
                  <a:pt x="10691" y="9922"/>
                </a:cubicBezTo>
              </a:path>
              <a:path w="943" h="1514">
                <a:moveTo>
                  <a:pt x="10046" y="10294"/>
                </a:moveTo>
                <a:cubicBezTo>
                  <a:pt x="10335" y="10224"/>
                  <a:pt x="10626" y="10161"/>
                  <a:pt x="10914" y="10096"/>
                </a:cubicBezTo>
                <a:cubicBezTo>
                  <a:pt x="10939" y="10088"/>
                  <a:pt x="10963" y="10079"/>
                  <a:pt x="10988" y="10071"/>
                </a:cubicBezTo>
              </a:path>
              <a:path w="943" h="1514">
                <a:moveTo>
                  <a:pt x="10294" y="10492"/>
                </a:moveTo>
                <a:cubicBezTo>
                  <a:pt x="10418" y="10431"/>
                  <a:pt x="10482" y="10397"/>
                  <a:pt x="10616" y="10418"/>
                </a:cubicBezTo>
                <a:cubicBezTo>
                  <a:pt x="10575" y="10542"/>
                  <a:pt x="10456" y="10612"/>
                  <a:pt x="10344" y="10691"/>
                </a:cubicBezTo>
                <a:cubicBezTo>
                  <a:pt x="10319" y="10707"/>
                  <a:pt x="10294" y="10724"/>
                  <a:pt x="10269" y="10740"/>
                </a:cubicBezTo>
                <a:cubicBezTo>
                  <a:pt x="10399" y="10693"/>
                  <a:pt x="10439" y="10671"/>
                  <a:pt x="10567" y="10691"/>
                </a:cubicBezTo>
                <a:cubicBezTo>
                  <a:pt x="10594" y="10811"/>
                  <a:pt x="10536" y="10875"/>
                  <a:pt x="10418" y="10939"/>
                </a:cubicBezTo>
                <a:cubicBezTo>
                  <a:pt x="10329" y="10987"/>
                  <a:pt x="10242" y="11003"/>
                  <a:pt x="10145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6840" y="4321080"/>
            <a:ext cx="268200" cy="573120"/>
          </a:xfrm>
          <a:custGeom>
            <a:avLst/>
            <a:gdLst/>
            <a:ahLst/>
            <a:rect l="l" t="t" r="r" b="b"/>
            <a:pathLst>
              <a:path w="745" h="1589">
                <a:moveTo>
                  <a:pt x="10393" y="12005"/>
                </a:moveTo>
                <a:cubicBezTo>
                  <a:pt x="10301" y="12013"/>
                  <a:pt x="10243" y="12022"/>
                  <a:pt x="10170" y="12080"/>
                </a:cubicBezTo>
                <a:cubicBezTo>
                  <a:pt x="10238" y="12181"/>
                  <a:pt x="10401" y="12276"/>
                  <a:pt x="10418" y="12402"/>
                </a:cubicBezTo>
                <a:cubicBezTo>
                  <a:pt x="10434" y="12520"/>
                  <a:pt x="10345" y="12560"/>
                  <a:pt x="10269" y="12601"/>
                </a:cubicBezTo>
                <a:cubicBezTo>
                  <a:pt x="10301" y="12408"/>
                  <a:pt x="10399" y="12257"/>
                  <a:pt x="10492" y="12080"/>
                </a:cubicBezTo>
              </a:path>
              <a:path w="745" h="1589">
                <a:moveTo>
                  <a:pt x="10021" y="12874"/>
                </a:moveTo>
                <a:cubicBezTo>
                  <a:pt x="10227" y="12808"/>
                  <a:pt x="10435" y="12739"/>
                  <a:pt x="10641" y="12675"/>
                </a:cubicBezTo>
                <a:cubicBezTo>
                  <a:pt x="10674" y="12667"/>
                  <a:pt x="10707" y="12658"/>
                  <a:pt x="10740" y="12650"/>
                </a:cubicBezTo>
              </a:path>
              <a:path w="745" h="1589">
                <a:moveTo>
                  <a:pt x="10195" y="13097"/>
                </a:moveTo>
                <a:cubicBezTo>
                  <a:pt x="10195" y="13262"/>
                  <a:pt x="10195" y="13428"/>
                  <a:pt x="10195" y="13593"/>
                </a:cubicBezTo>
              </a:path>
              <a:path w="745" h="1589">
                <a:moveTo>
                  <a:pt x="10542" y="13047"/>
                </a:moveTo>
                <a:cubicBezTo>
                  <a:pt x="10663" y="13033"/>
                  <a:pt x="10761" y="13025"/>
                  <a:pt x="10765" y="13196"/>
                </a:cubicBezTo>
                <a:cubicBezTo>
                  <a:pt x="10769" y="13356"/>
                  <a:pt x="10628" y="13494"/>
                  <a:pt x="10468" y="13494"/>
                </a:cubicBezTo>
                <a:cubicBezTo>
                  <a:pt x="10451" y="13486"/>
                  <a:pt x="10435" y="13477"/>
                  <a:pt x="10418" y="13469"/>
                </a:cubicBezTo>
                <a:cubicBezTo>
                  <a:pt x="10400" y="13323"/>
                  <a:pt x="10518" y="13341"/>
                  <a:pt x="10641" y="13345"/>
                </a:cubicBezTo>
                <a:cubicBezTo>
                  <a:pt x="10714" y="13345"/>
                  <a:pt x="10738" y="13344"/>
                  <a:pt x="10765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46640" y="5106960"/>
            <a:ext cx="312480" cy="492120"/>
          </a:xfrm>
          <a:custGeom>
            <a:avLst/>
            <a:gdLst/>
            <a:ahLst/>
            <a:rect l="l" t="t" r="r" b="b"/>
            <a:pathLst>
              <a:path w="869" h="1366">
                <a:moveTo>
                  <a:pt x="9699" y="14312"/>
                </a:moveTo>
                <a:cubicBezTo>
                  <a:pt x="9714" y="14449"/>
                  <a:pt x="9723" y="14572"/>
                  <a:pt x="9723" y="14709"/>
                </a:cubicBezTo>
              </a:path>
              <a:path w="869" h="1366">
                <a:moveTo>
                  <a:pt x="10096" y="14188"/>
                </a:moveTo>
                <a:cubicBezTo>
                  <a:pt x="10019" y="14216"/>
                  <a:pt x="9929" y="14217"/>
                  <a:pt x="9922" y="14288"/>
                </a:cubicBezTo>
                <a:cubicBezTo>
                  <a:pt x="9918" y="14334"/>
                  <a:pt x="9922" y="14389"/>
                  <a:pt x="9922" y="14436"/>
                </a:cubicBezTo>
                <a:cubicBezTo>
                  <a:pt x="9982" y="14419"/>
                  <a:pt x="10123" y="14324"/>
                  <a:pt x="10195" y="14362"/>
                </a:cubicBezTo>
                <a:cubicBezTo>
                  <a:pt x="10312" y="14424"/>
                  <a:pt x="10209" y="14611"/>
                  <a:pt x="10145" y="14660"/>
                </a:cubicBezTo>
                <a:cubicBezTo>
                  <a:pt x="10112" y="14676"/>
                  <a:pt x="10079" y="14693"/>
                  <a:pt x="10046" y="14709"/>
                </a:cubicBezTo>
              </a:path>
              <a:path w="869" h="1366">
                <a:moveTo>
                  <a:pt x="9575" y="14932"/>
                </a:moveTo>
                <a:cubicBezTo>
                  <a:pt x="9806" y="14880"/>
                  <a:pt x="10032" y="14807"/>
                  <a:pt x="10269" y="14784"/>
                </a:cubicBezTo>
                <a:cubicBezTo>
                  <a:pt x="10302" y="14784"/>
                  <a:pt x="10335" y="14784"/>
                  <a:pt x="10368" y="14784"/>
                </a:cubicBezTo>
              </a:path>
              <a:path w="869" h="1366">
                <a:moveTo>
                  <a:pt x="9649" y="15180"/>
                </a:moveTo>
                <a:cubicBezTo>
                  <a:pt x="9775" y="15110"/>
                  <a:pt x="9877" y="15079"/>
                  <a:pt x="9996" y="15180"/>
                </a:cubicBezTo>
                <a:cubicBezTo>
                  <a:pt x="10142" y="15305"/>
                  <a:pt x="9933" y="15482"/>
                  <a:pt x="9823" y="15528"/>
                </a:cubicBezTo>
                <a:cubicBezTo>
                  <a:pt x="9709" y="15576"/>
                  <a:pt x="9674" y="15578"/>
                  <a:pt x="9649" y="15503"/>
                </a:cubicBezTo>
                <a:cubicBezTo>
                  <a:pt x="9758" y="15425"/>
                  <a:pt x="9839" y="15368"/>
                  <a:pt x="9971" y="15429"/>
                </a:cubicBezTo>
                <a:cubicBezTo>
                  <a:pt x="9988" y="15437"/>
                  <a:pt x="10004" y="15445"/>
                  <a:pt x="10021" y="15453"/>
                </a:cubicBezTo>
              </a:path>
              <a:path w="869" h="1366">
                <a:moveTo>
                  <a:pt x="10220" y="15081"/>
                </a:moveTo>
                <a:cubicBezTo>
                  <a:pt x="10201" y="15141"/>
                  <a:pt x="10108" y="15348"/>
                  <a:pt x="10244" y="15354"/>
                </a:cubicBezTo>
                <a:cubicBezTo>
                  <a:pt x="10325" y="15358"/>
                  <a:pt x="10472" y="15216"/>
                  <a:pt x="10443" y="15131"/>
                </a:cubicBezTo>
                <a:cubicBezTo>
                  <a:pt x="10413" y="15041"/>
                  <a:pt x="10368" y="15041"/>
                  <a:pt x="10294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3463920"/>
            <a:ext cx="820800" cy="492120"/>
          </a:xfrm>
          <a:custGeom>
            <a:avLst/>
            <a:gdLst/>
            <a:ahLst/>
            <a:rect l="l" t="t" r="r" b="b"/>
            <a:pathLst>
              <a:path w="2283" h="1365">
                <a:moveTo>
                  <a:pt x="16197" y="9798"/>
                </a:moveTo>
                <a:cubicBezTo>
                  <a:pt x="16162" y="9943"/>
                  <a:pt x="16145" y="10000"/>
                  <a:pt x="16321" y="10021"/>
                </a:cubicBezTo>
                <a:cubicBezTo>
                  <a:pt x="16456" y="10021"/>
                  <a:pt x="16508" y="10018"/>
                  <a:pt x="16594" y="9971"/>
                </a:cubicBezTo>
              </a:path>
              <a:path w="2283" h="1365">
                <a:moveTo>
                  <a:pt x="16495" y="9624"/>
                </a:moveTo>
                <a:cubicBezTo>
                  <a:pt x="16463" y="9795"/>
                  <a:pt x="16414" y="9973"/>
                  <a:pt x="16396" y="10145"/>
                </a:cubicBezTo>
                <a:cubicBezTo>
                  <a:pt x="16396" y="10178"/>
                  <a:pt x="16396" y="10211"/>
                  <a:pt x="16396" y="10244"/>
                </a:cubicBezTo>
              </a:path>
              <a:path w="2283" h="1365">
                <a:moveTo>
                  <a:pt x="16098" y="10418"/>
                </a:moveTo>
                <a:cubicBezTo>
                  <a:pt x="16333" y="10305"/>
                  <a:pt x="16563" y="10234"/>
                  <a:pt x="16818" y="10170"/>
                </a:cubicBezTo>
              </a:path>
              <a:path w="2283" h="1365">
                <a:moveTo>
                  <a:pt x="16371" y="10468"/>
                </a:moveTo>
                <a:cubicBezTo>
                  <a:pt x="16349" y="10565"/>
                  <a:pt x="16263" y="10679"/>
                  <a:pt x="16297" y="10790"/>
                </a:cubicBezTo>
                <a:cubicBezTo>
                  <a:pt x="16337" y="10919"/>
                  <a:pt x="16487" y="10944"/>
                  <a:pt x="16594" y="10889"/>
                </a:cubicBezTo>
                <a:cubicBezTo>
                  <a:pt x="16678" y="10846"/>
                  <a:pt x="16681" y="10767"/>
                  <a:pt x="16694" y="10691"/>
                </a:cubicBezTo>
                <a:cubicBezTo>
                  <a:pt x="16597" y="10669"/>
                  <a:pt x="16487" y="10697"/>
                  <a:pt x="16446" y="10815"/>
                </a:cubicBezTo>
                <a:cubicBezTo>
                  <a:pt x="16446" y="10840"/>
                  <a:pt x="16446" y="10864"/>
                  <a:pt x="16446" y="10889"/>
                </a:cubicBezTo>
              </a:path>
              <a:path w="2283" h="1365">
                <a:moveTo>
                  <a:pt x="17140" y="10096"/>
                </a:moveTo>
                <a:lnTo>
                  <a:pt x="17140" y="10096"/>
                </a:lnTo>
              </a:path>
              <a:path w="2283" h="1365">
                <a:moveTo>
                  <a:pt x="17115" y="10492"/>
                </a:moveTo>
                <a:cubicBezTo>
                  <a:pt x="17143" y="10606"/>
                  <a:pt x="17152" y="10699"/>
                  <a:pt x="17115" y="10815"/>
                </a:cubicBezTo>
                <a:cubicBezTo>
                  <a:pt x="17107" y="10831"/>
                  <a:pt x="17098" y="10848"/>
                  <a:pt x="17090" y="10864"/>
                </a:cubicBezTo>
              </a:path>
              <a:path w="2283" h="1365">
                <a:moveTo>
                  <a:pt x="17512" y="9674"/>
                </a:moveTo>
                <a:cubicBezTo>
                  <a:pt x="17522" y="9805"/>
                  <a:pt x="17569" y="9919"/>
                  <a:pt x="17587" y="10046"/>
                </a:cubicBezTo>
              </a:path>
              <a:path w="2283" h="1365">
                <a:moveTo>
                  <a:pt x="17810" y="9624"/>
                </a:moveTo>
                <a:cubicBezTo>
                  <a:pt x="17976" y="9637"/>
                  <a:pt x="18095" y="9677"/>
                  <a:pt x="18107" y="9872"/>
                </a:cubicBezTo>
                <a:cubicBezTo>
                  <a:pt x="18117" y="10038"/>
                  <a:pt x="17916" y="10039"/>
                  <a:pt x="17810" y="10046"/>
                </a:cubicBezTo>
                <a:cubicBezTo>
                  <a:pt x="17833" y="9918"/>
                  <a:pt x="17912" y="9855"/>
                  <a:pt x="18058" y="9922"/>
                </a:cubicBezTo>
                <a:cubicBezTo>
                  <a:pt x="18074" y="9938"/>
                  <a:pt x="18091" y="9955"/>
                  <a:pt x="18107" y="9971"/>
                </a:cubicBezTo>
              </a:path>
              <a:path w="2283" h="1365">
                <a:moveTo>
                  <a:pt x="17438" y="10368"/>
                </a:moveTo>
                <a:cubicBezTo>
                  <a:pt x="17703" y="10318"/>
                  <a:pt x="17964" y="10284"/>
                  <a:pt x="18231" y="10244"/>
                </a:cubicBezTo>
                <a:cubicBezTo>
                  <a:pt x="18325" y="10226"/>
                  <a:pt x="18344" y="10197"/>
                  <a:pt x="18380" y="10244"/>
                </a:cubicBezTo>
              </a:path>
              <a:path w="2283" h="1365">
                <a:moveTo>
                  <a:pt x="17760" y="10616"/>
                </a:moveTo>
                <a:cubicBezTo>
                  <a:pt x="17792" y="10721"/>
                  <a:pt x="17785" y="10826"/>
                  <a:pt x="17785" y="10939"/>
                </a:cubicBezTo>
                <a:cubicBezTo>
                  <a:pt x="17785" y="10955"/>
                  <a:pt x="17785" y="10972"/>
                  <a:pt x="17785" y="10988"/>
                </a:cubicBezTo>
              </a:path>
              <a:path w="2283" h="1365">
                <a:moveTo>
                  <a:pt x="18157" y="10468"/>
                </a:moveTo>
                <a:cubicBezTo>
                  <a:pt x="18086" y="10517"/>
                  <a:pt x="18036" y="10588"/>
                  <a:pt x="18132" y="10666"/>
                </a:cubicBezTo>
                <a:cubicBezTo>
                  <a:pt x="18165" y="10693"/>
                  <a:pt x="18420" y="10803"/>
                  <a:pt x="18306" y="10889"/>
                </a:cubicBezTo>
                <a:cubicBezTo>
                  <a:pt x="18233" y="10913"/>
                  <a:pt x="18209" y="10922"/>
                  <a:pt x="18157" y="10914"/>
                </a:cubicBezTo>
                <a:cubicBezTo>
                  <a:pt x="18171" y="10772"/>
                  <a:pt x="18228" y="10672"/>
                  <a:pt x="18256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76920" y="4268880"/>
            <a:ext cx="1305000" cy="606240"/>
          </a:xfrm>
          <a:custGeom>
            <a:avLst/>
            <a:gdLst/>
            <a:ahLst/>
            <a:rect l="l" t="t" r="r" b="b"/>
            <a:pathLst>
              <a:path w="3622" h="1687">
                <a:moveTo>
                  <a:pt x="16073" y="12105"/>
                </a:moveTo>
                <a:cubicBezTo>
                  <a:pt x="16039" y="12246"/>
                  <a:pt x="16057" y="12343"/>
                  <a:pt x="16247" y="12303"/>
                </a:cubicBezTo>
                <a:cubicBezTo>
                  <a:pt x="16346" y="12254"/>
                  <a:pt x="16380" y="12237"/>
                  <a:pt x="16446" y="12204"/>
                </a:cubicBezTo>
              </a:path>
              <a:path w="3622" h="1687">
                <a:moveTo>
                  <a:pt x="16371" y="11857"/>
                </a:moveTo>
                <a:cubicBezTo>
                  <a:pt x="16383" y="12031"/>
                  <a:pt x="16409" y="12205"/>
                  <a:pt x="16421" y="12378"/>
                </a:cubicBezTo>
                <a:cubicBezTo>
                  <a:pt x="16421" y="12462"/>
                  <a:pt x="16414" y="12482"/>
                  <a:pt x="16446" y="12526"/>
                </a:cubicBezTo>
              </a:path>
              <a:path w="3622" h="1687">
                <a:moveTo>
                  <a:pt x="16049" y="12799"/>
                </a:moveTo>
                <a:cubicBezTo>
                  <a:pt x="16280" y="12698"/>
                  <a:pt x="16499" y="12659"/>
                  <a:pt x="16743" y="12601"/>
                </a:cubicBezTo>
                <a:cubicBezTo>
                  <a:pt x="16768" y="12593"/>
                  <a:pt x="16793" y="12584"/>
                  <a:pt x="16818" y="12576"/>
                </a:cubicBezTo>
              </a:path>
              <a:path w="3622" h="1687">
                <a:moveTo>
                  <a:pt x="16495" y="12973"/>
                </a:moveTo>
                <a:cubicBezTo>
                  <a:pt x="16451" y="13133"/>
                  <a:pt x="16354" y="13302"/>
                  <a:pt x="16371" y="13469"/>
                </a:cubicBezTo>
                <a:cubicBezTo>
                  <a:pt x="16379" y="13486"/>
                  <a:pt x="16388" y="13502"/>
                  <a:pt x="16396" y="13519"/>
                </a:cubicBezTo>
                <a:cubicBezTo>
                  <a:pt x="16525" y="13544"/>
                  <a:pt x="16604" y="13502"/>
                  <a:pt x="16694" y="13395"/>
                </a:cubicBezTo>
                <a:cubicBezTo>
                  <a:pt x="16736" y="13331"/>
                  <a:pt x="16752" y="13320"/>
                  <a:pt x="16743" y="13271"/>
                </a:cubicBezTo>
                <a:cubicBezTo>
                  <a:pt x="16618" y="13286"/>
                  <a:pt x="16583" y="13336"/>
                  <a:pt x="16520" y="13444"/>
                </a:cubicBezTo>
                <a:cubicBezTo>
                  <a:pt x="16496" y="13492"/>
                  <a:pt x="16488" y="13506"/>
                  <a:pt x="16495" y="13543"/>
                </a:cubicBezTo>
              </a:path>
              <a:path w="3622" h="1687">
                <a:moveTo>
                  <a:pt x="17140" y="12551"/>
                </a:moveTo>
                <a:lnTo>
                  <a:pt x="17140" y="12551"/>
                </a:lnTo>
              </a:path>
              <a:path w="3622" h="1687">
                <a:moveTo>
                  <a:pt x="17314" y="13047"/>
                </a:moveTo>
                <a:cubicBezTo>
                  <a:pt x="17308" y="13158"/>
                  <a:pt x="17296" y="13260"/>
                  <a:pt x="17289" y="13370"/>
                </a:cubicBezTo>
              </a:path>
              <a:path w="3622" h="1687">
                <a:moveTo>
                  <a:pt x="17661" y="12254"/>
                </a:moveTo>
                <a:cubicBezTo>
                  <a:pt x="17727" y="12210"/>
                  <a:pt x="17796" y="12211"/>
                  <a:pt x="17859" y="12179"/>
                </a:cubicBezTo>
                <a:cubicBezTo>
                  <a:pt x="17883" y="12335"/>
                  <a:pt x="17816" y="12383"/>
                  <a:pt x="17760" y="12526"/>
                </a:cubicBezTo>
                <a:cubicBezTo>
                  <a:pt x="17752" y="12551"/>
                  <a:pt x="17743" y="12576"/>
                  <a:pt x="17735" y="12601"/>
                </a:cubicBezTo>
                <a:cubicBezTo>
                  <a:pt x="17844" y="12590"/>
                  <a:pt x="17952" y="12576"/>
                  <a:pt x="18058" y="12551"/>
                </a:cubicBezTo>
              </a:path>
              <a:path w="3622" h="1687">
                <a:moveTo>
                  <a:pt x="17636" y="12849"/>
                </a:moveTo>
                <a:cubicBezTo>
                  <a:pt x="17793" y="12838"/>
                  <a:pt x="17953" y="12812"/>
                  <a:pt x="18107" y="12774"/>
                </a:cubicBezTo>
                <a:cubicBezTo>
                  <a:pt x="18132" y="12766"/>
                  <a:pt x="18157" y="12758"/>
                  <a:pt x="18182" y="12750"/>
                </a:cubicBezTo>
              </a:path>
              <a:path w="3622" h="1687">
                <a:moveTo>
                  <a:pt x="17859" y="13146"/>
                </a:moveTo>
                <a:cubicBezTo>
                  <a:pt x="17914" y="13122"/>
                  <a:pt x="18047" y="13055"/>
                  <a:pt x="18107" y="13097"/>
                </a:cubicBezTo>
                <a:cubicBezTo>
                  <a:pt x="18198" y="13161"/>
                  <a:pt x="17976" y="13289"/>
                  <a:pt x="17934" y="13320"/>
                </a:cubicBezTo>
                <a:cubicBezTo>
                  <a:pt x="18016" y="13311"/>
                  <a:pt x="18111" y="13273"/>
                  <a:pt x="18182" y="13345"/>
                </a:cubicBezTo>
                <a:cubicBezTo>
                  <a:pt x="18253" y="13416"/>
                  <a:pt x="18000" y="13491"/>
                  <a:pt x="17983" y="13494"/>
                </a:cubicBezTo>
                <a:cubicBezTo>
                  <a:pt x="17958" y="13494"/>
                  <a:pt x="17934" y="13494"/>
                  <a:pt x="17909" y="13494"/>
                </a:cubicBezTo>
              </a:path>
              <a:path w="3622" h="1687">
                <a:moveTo>
                  <a:pt x="18479" y="12626"/>
                </a:moveTo>
                <a:lnTo>
                  <a:pt x="18479" y="12626"/>
                </a:lnTo>
              </a:path>
              <a:path w="3622" h="1687">
                <a:moveTo>
                  <a:pt x="18504" y="13097"/>
                </a:moveTo>
                <a:cubicBezTo>
                  <a:pt x="18504" y="13180"/>
                  <a:pt x="18504" y="13262"/>
                  <a:pt x="18504" y="13345"/>
                </a:cubicBezTo>
              </a:path>
              <a:path w="3622" h="1687">
                <a:moveTo>
                  <a:pt x="18901" y="12055"/>
                </a:moveTo>
                <a:cubicBezTo>
                  <a:pt x="18935" y="12188"/>
                  <a:pt x="18966" y="12315"/>
                  <a:pt x="18976" y="12452"/>
                </a:cubicBezTo>
              </a:path>
              <a:path w="3622" h="1687">
                <a:moveTo>
                  <a:pt x="19199" y="11906"/>
                </a:moveTo>
                <a:cubicBezTo>
                  <a:pt x="19211" y="12005"/>
                  <a:pt x="19151" y="12216"/>
                  <a:pt x="19199" y="12303"/>
                </a:cubicBezTo>
                <a:cubicBezTo>
                  <a:pt x="19215" y="12311"/>
                  <a:pt x="19232" y="12320"/>
                  <a:pt x="19248" y="12328"/>
                </a:cubicBezTo>
                <a:cubicBezTo>
                  <a:pt x="19370" y="12277"/>
                  <a:pt x="19427" y="12264"/>
                  <a:pt x="19397" y="12129"/>
                </a:cubicBezTo>
                <a:cubicBezTo>
                  <a:pt x="19289" y="12170"/>
                  <a:pt x="19283" y="12236"/>
                  <a:pt x="19273" y="12353"/>
                </a:cubicBezTo>
              </a:path>
              <a:path w="3622" h="1687">
                <a:moveTo>
                  <a:pt x="18852" y="12700"/>
                </a:moveTo>
                <a:cubicBezTo>
                  <a:pt x="19000" y="12675"/>
                  <a:pt x="19154" y="12621"/>
                  <a:pt x="19298" y="12576"/>
                </a:cubicBezTo>
                <a:cubicBezTo>
                  <a:pt x="19421" y="12535"/>
                  <a:pt x="19443" y="12518"/>
                  <a:pt x="19521" y="12526"/>
                </a:cubicBezTo>
              </a:path>
              <a:path w="3622" h="1687">
                <a:moveTo>
                  <a:pt x="18976" y="13022"/>
                </a:moveTo>
                <a:cubicBezTo>
                  <a:pt x="19084" y="13011"/>
                  <a:pt x="19198" y="12958"/>
                  <a:pt x="19248" y="13097"/>
                </a:cubicBezTo>
                <a:cubicBezTo>
                  <a:pt x="19294" y="13224"/>
                  <a:pt x="19138" y="13345"/>
                  <a:pt x="19025" y="13345"/>
                </a:cubicBezTo>
                <a:cubicBezTo>
                  <a:pt x="18982" y="13323"/>
                  <a:pt x="18970" y="13319"/>
                  <a:pt x="18951" y="13295"/>
                </a:cubicBezTo>
                <a:cubicBezTo>
                  <a:pt x="19008" y="13206"/>
                  <a:pt x="19089" y="13093"/>
                  <a:pt x="19199" y="13196"/>
                </a:cubicBezTo>
                <a:cubicBezTo>
                  <a:pt x="19207" y="13213"/>
                  <a:pt x="19216" y="13229"/>
                  <a:pt x="19224" y="13246"/>
                </a:cubicBezTo>
              </a:path>
              <a:path w="3622" h="1687">
                <a:moveTo>
                  <a:pt x="19372" y="12923"/>
                </a:moveTo>
                <a:cubicBezTo>
                  <a:pt x="19478" y="13003"/>
                  <a:pt x="19536" y="13024"/>
                  <a:pt x="19670" y="12998"/>
                </a:cubicBezTo>
              </a:path>
              <a:path w="3622" h="1687">
                <a:moveTo>
                  <a:pt x="19596" y="12774"/>
                </a:moveTo>
                <a:cubicBezTo>
                  <a:pt x="19619" y="12918"/>
                  <a:pt x="19621" y="13050"/>
                  <a:pt x="19621" y="13196"/>
                </a:cubicBezTo>
                <a:cubicBezTo>
                  <a:pt x="19621" y="13213"/>
                  <a:pt x="19621" y="13229"/>
                  <a:pt x="19621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42000" y="5062680"/>
            <a:ext cx="1071720" cy="482400"/>
          </a:xfrm>
          <a:custGeom>
            <a:avLst/>
            <a:gdLst/>
            <a:ahLst/>
            <a:rect l="l" t="t" r="r" b="b"/>
            <a:pathLst>
              <a:path w="2978" h="1341">
                <a:moveTo>
                  <a:pt x="16297" y="14064"/>
                </a:moveTo>
                <a:cubicBezTo>
                  <a:pt x="16185" y="14083"/>
                  <a:pt x="16191" y="14103"/>
                  <a:pt x="16123" y="14188"/>
                </a:cubicBezTo>
                <a:cubicBezTo>
                  <a:pt x="16095" y="14216"/>
                  <a:pt x="16086" y="14230"/>
                  <a:pt x="16098" y="14263"/>
                </a:cubicBezTo>
                <a:cubicBezTo>
                  <a:pt x="16154" y="14252"/>
                  <a:pt x="16399" y="14191"/>
                  <a:pt x="16446" y="14238"/>
                </a:cubicBezTo>
                <a:cubicBezTo>
                  <a:pt x="16538" y="14331"/>
                  <a:pt x="16379" y="14488"/>
                  <a:pt x="16297" y="14511"/>
                </a:cubicBezTo>
                <a:cubicBezTo>
                  <a:pt x="16264" y="14511"/>
                  <a:pt x="16230" y="14511"/>
                  <a:pt x="16197" y="14511"/>
                </a:cubicBezTo>
              </a:path>
              <a:path w="2978" h="1341">
                <a:moveTo>
                  <a:pt x="15949" y="14734"/>
                </a:moveTo>
                <a:cubicBezTo>
                  <a:pt x="16156" y="14701"/>
                  <a:pt x="16368" y="14673"/>
                  <a:pt x="16570" y="14635"/>
                </a:cubicBezTo>
                <a:cubicBezTo>
                  <a:pt x="16595" y="14627"/>
                  <a:pt x="16619" y="14618"/>
                  <a:pt x="16644" y="14610"/>
                </a:cubicBezTo>
              </a:path>
              <a:path w="2978" h="1341">
                <a:moveTo>
                  <a:pt x="16173" y="14957"/>
                </a:moveTo>
                <a:cubicBezTo>
                  <a:pt x="16167" y="15019"/>
                  <a:pt x="16099" y="15175"/>
                  <a:pt x="16197" y="15205"/>
                </a:cubicBezTo>
                <a:cubicBezTo>
                  <a:pt x="16300" y="15236"/>
                  <a:pt x="16388" y="15175"/>
                  <a:pt x="16470" y="15131"/>
                </a:cubicBezTo>
              </a:path>
              <a:path w="2978" h="1341">
                <a:moveTo>
                  <a:pt x="16421" y="14932"/>
                </a:moveTo>
                <a:cubicBezTo>
                  <a:pt x="16421" y="15069"/>
                  <a:pt x="16376" y="15221"/>
                  <a:pt x="16396" y="15354"/>
                </a:cubicBezTo>
                <a:cubicBezTo>
                  <a:pt x="16404" y="15371"/>
                  <a:pt x="16413" y="15387"/>
                  <a:pt x="16421" y="15404"/>
                </a:cubicBezTo>
              </a:path>
              <a:path w="2978" h="1341">
                <a:moveTo>
                  <a:pt x="16991" y="14684"/>
                </a:moveTo>
                <a:lnTo>
                  <a:pt x="16991" y="14684"/>
                </a:lnTo>
              </a:path>
              <a:path w="2978" h="1341">
                <a:moveTo>
                  <a:pt x="16991" y="15056"/>
                </a:moveTo>
                <a:cubicBezTo>
                  <a:pt x="16981" y="15145"/>
                  <a:pt x="16954" y="15221"/>
                  <a:pt x="16917" y="15304"/>
                </a:cubicBezTo>
              </a:path>
              <a:path w="2978" h="1341">
                <a:moveTo>
                  <a:pt x="17462" y="14114"/>
                </a:moveTo>
                <a:cubicBezTo>
                  <a:pt x="17533" y="14114"/>
                  <a:pt x="17745" y="14075"/>
                  <a:pt x="17785" y="14139"/>
                </a:cubicBezTo>
                <a:cubicBezTo>
                  <a:pt x="17820" y="14196"/>
                  <a:pt x="17695" y="14258"/>
                  <a:pt x="17661" y="14288"/>
                </a:cubicBezTo>
                <a:cubicBezTo>
                  <a:pt x="17756" y="14311"/>
                  <a:pt x="17786" y="14317"/>
                  <a:pt x="17835" y="14362"/>
                </a:cubicBezTo>
                <a:cubicBezTo>
                  <a:pt x="17755" y="14490"/>
                  <a:pt x="17686" y="14481"/>
                  <a:pt x="17537" y="14486"/>
                </a:cubicBezTo>
                <a:cubicBezTo>
                  <a:pt x="17520" y="14486"/>
                  <a:pt x="17504" y="14486"/>
                  <a:pt x="17487" y="14486"/>
                </a:cubicBezTo>
              </a:path>
              <a:path w="2978" h="1341">
                <a:moveTo>
                  <a:pt x="18083" y="14089"/>
                </a:moveTo>
                <a:cubicBezTo>
                  <a:pt x="18012" y="14174"/>
                  <a:pt x="17898" y="14319"/>
                  <a:pt x="18083" y="14362"/>
                </a:cubicBezTo>
                <a:cubicBezTo>
                  <a:pt x="18219" y="14394"/>
                  <a:pt x="18383" y="14263"/>
                  <a:pt x="18355" y="14114"/>
                </a:cubicBezTo>
                <a:cubicBezTo>
                  <a:pt x="18305" y="14063"/>
                  <a:pt x="18287" y="14046"/>
                  <a:pt x="18231" y="14064"/>
                </a:cubicBezTo>
              </a:path>
              <a:path w="2978" h="1341">
                <a:moveTo>
                  <a:pt x="17462" y="14734"/>
                </a:moveTo>
                <a:cubicBezTo>
                  <a:pt x="17656" y="14692"/>
                  <a:pt x="17860" y="14673"/>
                  <a:pt x="18058" y="14635"/>
                </a:cubicBezTo>
                <a:cubicBezTo>
                  <a:pt x="18190" y="14613"/>
                  <a:pt x="18222" y="14605"/>
                  <a:pt x="18306" y="14610"/>
                </a:cubicBezTo>
              </a:path>
              <a:path w="2978" h="1341">
                <a:moveTo>
                  <a:pt x="17835" y="15007"/>
                </a:moveTo>
                <a:cubicBezTo>
                  <a:pt x="17936" y="15030"/>
                  <a:pt x="18105" y="15100"/>
                  <a:pt x="18033" y="15255"/>
                </a:cubicBezTo>
                <a:cubicBezTo>
                  <a:pt x="17963" y="15406"/>
                  <a:pt x="17755" y="15350"/>
                  <a:pt x="17636" y="15329"/>
                </a:cubicBezTo>
                <a:cubicBezTo>
                  <a:pt x="17722" y="15207"/>
                  <a:pt x="17786" y="15223"/>
                  <a:pt x="17934" y="15280"/>
                </a:cubicBezTo>
                <a:cubicBezTo>
                  <a:pt x="17950" y="15288"/>
                  <a:pt x="17967" y="15296"/>
                  <a:pt x="17983" y="15304"/>
                </a:cubicBezTo>
              </a:path>
              <a:path w="2978" h="1341">
                <a:moveTo>
                  <a:pt x="18331" y="14982"/>
                </a:moveTo>
                <a:cubicBezTo>
                  <a:pt x="18242" y="15071"/>
                  <a:pt x="18174" y="15192"/>
                  <a:pt x="18355" y="15255"/>
                </a:cubicBezTo>
                <a:cubicBezTo>
                  <a:pt x="18448" y="15287"/>
                  <a:pt x="18597" y="15153"/>
                  <a:pt x="18579" y="15056"/>
                </a:cubicBezTo>
                <a:cubicBezTo>
                  <a:pt x="18529" y="14982"/>
                  <a:pt x="18512" y="14957"/>
                  <a:pt x="18455" y="14932"/>
                </a:cubicBezTo>
              </a:path>
              <a:path w="2978" h="1341">
                <a:moveTo>
                  <a:pt x="18901" y="14461"/>
                </a:moveTo>
                <a:lnTo>
                  <a:pt x="18901" y="14461"/>
                </a:lnTo>
              </a:path>
              <a:path w="2978" h="1341">
                <a:moveTo>
                  <a:pt x="18901" y="14883"/>
                </a:moveTo>
                <a:cubicBezTo>
                  <a:pt x="18916" y="14978"/>
                  <a:pt x="18913" y="15013"/>
                  <a:pt x="18876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054760"/>
            <a:ext cx="357480" cy="419040"/>
          </a:xfrm>
          <a:custGeom>
            <a:avLst/>
            <a:gdLst/>
            <a:ahLst/>
            <a:rect l="l" t="t" r="r" b="b"/>
            <a:pathLst>
              <a:path w="993" h="1167">
                <a:moveTo>
                  <a:pt x="19521" y="14114"/>
                </a:moveTo>
                <a:cubicBezTo>
                  <a:pt x="19492" y="14200"/>
                  <a:pt x="19478" y="14230"/>
                  <a:pt x="19496" y="14312"/>
                </a:cubicBezTo>
                <a:cubicBezTo>
                  <a:pt x="19623" y="14312"/>
                  <a:pt x="19677" y="14306"/>
                  <a:pt x="19794" y="14263"/>
                </a:cubicBezTo>
              </a:path>
              <a:path w="993" h="1167">
                <a:moveTo>
                  <a:pt x="19720" y="14114"/>
                </a:moveTo>
                <a:cubicBezTo>
                  <a:pt x="19699" y="14246"/>
                  <a:pt x="19674" y="14361"/>
                  <a:pt x="19695" y="14486"/>
                </a:cubicBezTo>
              </a:path>
              <a:path w="993" h="1167">
                <a:moveTo>
                  <a:pt x="19993" y="14089"/>
                </a:moveTo>
                <a:cubicBezTo>
                  <a:pt x="19950" y="14139"/>
                  <a:pt x="19911" y="14175"/>
                  <a:pt x="19968" y="14213"/>
                </a:cubicBezTo>
                <a:cubicBezTo>
                  <a:pt x="20027" y="14253"/>
                  <a:pt x="20087" y="14291"/>
                  <a:pt x="20141" y="14337"/>
                </a:cubicBezTo>
                <a:cubicBezTo>
                  <a:pt x="20068" y="14411"/>
                  <a:pt x="20044" y="14436"/>
                  <a:pt x="19968" y="14436"/>
                </a:cubicBezTo>
              </a:path>
              <a:path w="993" h="1167">
                <a:moveTo>
                  <a:pt x="19943" y="14089"/>
                </a:moveTo>
                <a:cubicBezTo>
                  <a:pt x="20043" y="14067"/>
                  <a:pt x="20139" y="14057"/>
                  <a:pt x="20241" y="14039"/>
                </a:cubicBezTo>
              </a:path>
              <a:path w="993" h="1167">
                <a:moveTo>
                  <a:pt x="19546" y="14858"/>
                </a:moveTo>
                <a:cubicBezTo>
                  <a:pt x="19533" y="14840"/>
                  <a:pt x="19449" y="14685"/>
                  <a:pt x="19472" y="14660"/>
                </a:cubicBezTo>
                <a:cubicBezTo>
                  <a:pt x="19577" y="14549"/>
                  <a:pt x="19972" y="14558"/>
                  <a:pt x="20117" y="14536"/>
                </a:cubicBezTo>
                <a:cubicBezTo>
                  <a:pt x="20243" y="14517"/>
                  <a:pt x="20348" y="14490"/>
                  <a:pt x="20464" y="14511"/>
                </a:cubicBezTo>
              </a:path>
              <a:path w="993" h="1167">
                <a:moveTo>
                  <a:pt x="19621" y="14833"/>
                </a:moveTo>
                <a:cubicBezTo>
                  <a:pt x="19522" y="14964"/>
                  <a:pt x="19448" y="15017"/>
                  <a:pt x="19496" y="15180"/>
                </a:cubicBezTo>
                <a:cubicBezTo>
                  <a:pt x="19649" y="15202"/>
                  <a:pt x="19760" y="15183"/>
                  <a:pt x="19869" y="15056"/>
                </a:cubicBezTo>
                <a:cubicBezTo>
                  <a:pt x="19877" y="15040"/>
                  <a:pt x="19885" y="15023"/>
                  <a:pt x="19893" y="15007"/>
                </a:cubicBezTo>
                <a:cubicBezTo>
                  <a:pt x="19812" y="14998"/>
                  <a:pt x="19724" y="15026"/>
                  <a:pt x="19695" y="15131"/>
                </a:cubicBezTo>
                <a:cubicBezTo>
                  <a:pt x="19695" y="15147"/>
                  <a:pt x="19695" y="15164"/>
                  <a:pt x="19695" y="15180"/>
                </a:cubicBezTo>
              </a:path>
              <a:path w="993" h="1167">
                <a:moveTo>
                  <a:pt x="20017" y="14808"/>
                </a:moveTo>
                <a:cubicBezTo>
                  <a:pt x="19951" y="14915"/>
                  <a:pt x="19839" y="15067"/>
                  <a:pt x="20042" y="15106"/>
                </a:cubicBezTo>
                <a:cubicBezTo>
                  <a:pt x="20165" y="15130"/>
                  <a:pt x="20305" y="14984"/>
                  <a:pt x="20241" y="14858"/>
                </a:cubicBezTo>
                <a:cubicBezTo>
                  <a:pt x="20216" y="14833"/>
                  <a:pt x="20191" y="14809"/>
                  <a:pt x="20166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at is the value of x to make the ratios equal?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4 : 10 ,  8 : x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3 : 4  ,  12 : x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5 : x  ,  15 : 30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3360" indent="-603360">
              <a:lnSpc>
                <a:spcPct val="2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x : 8  ,  25 : 40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1" name=""/>
          <p:cNvSpPr/>
          <p:nvPr/>
        </p:nvSpPr>
        <p:spPr>
          <a:xfrm>
            <a:off x="3741840" y="1955880"/>
            <a:ext cx="1081080" cy="679320"/>
          </a:xfrm>
          <a:custGeom>
            <a:avLst/>
            <a:gdLst/>
            <a:ahLst/>
            <a:rect l="l" t="t" r="r" b="b"/>
            <a:pathLst>
              <a:path w="3003" h="1886">
                <a:moveTo>
                  <a:pt x="10567" y="5755"/>
                </a:moveTo>
                <a:cubicBezTo>
                  <a:pt x="10556" y="5857"/>
                  <a:pt x="10527" y="5956"/>
                  <a:pt x="10492" y="6052"/>
                </a:cubicBezTo>
                <a:cubicBezTo>
                  <a:pt x="10652" y="6069"/>
                  <a:pt x="10686" y="6059"/>
                  <a:pt x="10840" y="6003"/>
                </a:cubicBezTo>
              </a:path>
              <a:path w="3003" h="1886">
                <a:moveTo>
                  <a:pt x="10790" y="5705"/>
                </a:moveTo>
                <a:cubicBezTo>
                  <a:pt x="10790" y="5931"/>
                  <a:pt x="10804" y="6151"/>
                  <a:pt x="10815" y="6375"/>
                </a:cubicBezTo>
              </a:path>
              <a:path w="3003" h="1886">
                <a:moveTo>
                  <a:pt x="10393" y="6598"/>
                </a:moveTo>
                <a:cubicBezTo>
                  <a:pt x="10666" y="6528"/>
                  <a:pt x="10944" y="6457"/>
                  <a:pt x="11212" y="6375"/>
                </a:cubicBezTo>
                <a:cubicBezTo>
                  <a:pt x="11228" y="6367"/>
                  <a:pt x="11245" y="6358"/>
                  <a:pt x="11261" y="6350"/>
                </a:cubicBezTo>
              </a:path>
              <a:path w="3003" h="1886">
                <a:moveTo>
                  <a:pt x="10592" y="6871"/>
                </a:moveTo>
                <a:cubicBezTo>
                  <a:pt x="10542" y="7020"/>
                  <a:pt x="10488" y="7163"/>
                  <a:pt x="10468" y="7317"/>
                </a:cubicBezTo>
              </a:path>
              <a:path w="3003" h="1886">
                <a:moveTo>
                  <a:pt x="10889" y="6821"/>
                </a:moveTo>
                <a:cubicBezTo>
                  <a:pt x="10855" y="6935"/>
                  <a:pt x="10826" y="7027"/>
                  <a:pt x="10815" y="7144"/>
                </a:cubicBezTo>
                <a:cubicBezTo>
                  <a:pt x="10971" y="7128"/>
                  <a:pt x="11056" y="7061"/>
                  <a:pt x="11137" y="6921"/>
                </a:cubicBezTo>
                <a:cubicBezTo>
                  <a:pt x="11161" y="6849"/>
                  <a:pt x="11171" y="6826"/>
                  <a:pt x="11112" y="6796"/>
                </a:cubicBezTo>
              </a:path>
              <a:path w="3003" h="1886">
                <a:moveTo>
                  <a:pt x="11683" y="6499"/>
                </a:moveTo>
                <a:cubicBezTo>
                  <a:pt x="11790" y="6472"/>
                  <a:pt x="11831" y="6462"/>
                  <a:pt x="11906" y="6449"/>
                </a:cubicBezTo>
              </a:path>
              <a:path w="3003" h="1886">
                <a:moveTo>
                  <a:pt x="11633" y="6697"/>
                </a:moveTo>
                <a:cubicBezTo>
                  <a:pt x="11692" y="6638"/>
                  <a:pt x="11747" y="6616"/>
                  <a:pt x="11832" y="6623"/>
                </a:cubicBezTo>
              </a:path>
              <a:path w="3003" h="1886">
                <a:moveTo>
                  <a:pt x="12799" y="5556"/>
                </a:moveTo>
                <a:cubicBezTo>
                  <a:pt x="12654" y="5689"/>
                  <a:pt x="12656" y="5756"/>
                  <a:pt x="12774" y="5928"/>
                </a:cubicBezTo>
                <a:cubicBezTo>
                  <a:pt x="12891" y="6099"/>
                  <a:pt x="12961" y="6183"/>
                  <a:pt x="12874" y="6375"/>
                </a:cubicBezTo>
                <a:cubicBezTo>
                  <a:pt x="12759" y="6319"/>
                  <a:pt x="12927" y="6041"/>
                  <a:pt x="13022" y="5928"/>
                </a:cubicBezTo>
                <a:cubicBezTo>
                  <a:pt x="13055" y="5903"/>
                  <a:pt x="13089" y="5879"/>
                  <a:pt x="13122" y="5854"/>
                </a:cubicBezTo>
              </a:path>
              <a:path w="3003" h="1886">
                <a:moveTo>
                  <a:pt x="12502" y="6672"/>
                </a:moveTo>
                <a:cubicBezTo>
                  <a:pt x="12677" y="6605"/>
                  <a:pt x="12839" y="6567"/>
                  <a:pt x="13022" y="6524"/>
                </a:cubicBezTo>
                <a:cubicBezTo>
                  <a:pt x="13153" y="6493"/>
                  <a:pt x="13262" y="6460"/>
                  <a:pt x="13395" y="6449"/>
                </a:cubicBezTo>
              </a:path>
              <a:path w="3003" h="1886">
                <a:moveTo>
                  <a:pt x="11410" y="5928"/>
                </a:moveTo>
                <a:cubicBezTo>
                  <a:pt x="11410" y="5953"/>
                  <a:pt x="11410" y="5978"/>
                  <a:pt x="11410" y="6003"/>
                </a:cubicBezTo>
              </a:path>
              <a:path w="3003" h="1886">
                <a:moveTo>
                  <a:pt x="11435" y="6003"/>
                </a:moveTo>
                <a:cubicBezTo>
                  <a:pt x="11413" y="6110"/>
                  <a:pt x="11405" y="6134"/>
                  <a:pt x="11410" y="6201"/>
                </a:cubicBezTo>
              </a:path>
              <a:path w="3003" h="1886">
                <a:moveTo>
                  <a:pt x="11658" y="5457"/>
                </a:moveTo>
                <a:cubicBezTo>
                  <a:pt x="11690" y="5438"/>
                  <a:pt x="11777" y="5397"/>
                  <a:pt x="11782" y="5457"/>
                </a:cubicBezTo>
                <a:cubicBezTo>
                  <a:pt x="11782" y="5553"/>
                  <a:pt x="11784" y="5583"/>
                  <a:pt x="11733" y="5631"/>
                </a:cubicBezTo>
                <a:cubicBezTo>
                  <a:pt x="11668" y="5759"/>
                  <a:pt x="11849" y="5647"/>
                  <a:pt x="11906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43240" y="2581200"/>
            <a:ext cx="214560" cy="115920"/>
          </a:xfrm>
          <a:custGeom>
            <a:avLst/>
            <a:gdLst/>
            <a:ahLst/>
            <a:rect l="l" t="t" r="r" b="b"/>
            <a:pathLst>
              <a:path w="597" h="323">
                <a:moveTo>
                  <a:pt x="11509" y="7193"/>
                </a:moveTo>
                <a:cubicBezTo>
                  <a:pt x="11517" y="7254"/>
                  <a:pt x="11530" y="7285"/>
                  <a:pt x="11559" y="7342"/>
                </a:cubicBezTo>
              </a:path>
              <a:path w="597" h="323">
                <a:moveTo>
                  <a:pt x="11584" y="7218"/>
                </a:moveTo>
                <a:cubicBezTo>
                  <a:pt x="11541" y="7325"/>
                  <a:pt x="11530" y="7349"/>
                  <a:pt x="11509" y="7417"/>
                </a:cubicBezTo>
              </a:path>
              <a:path w="597" h="323">
                <a:moveTo>
                  <a:pt x="11807" y="7169"/>
                </a:moveTo>
                <a:cubicBezTo>
                  <a:pt x="11874" y="7169"/>
                  <a:pt x="11918" y="7173"/>
                  <a:pt x="11981" y="7193"/>
                </a:cubicBezTo>
                <a:cubicBezTo>
                  <a:pt x="11932" y="7292"/>
                  <a:pt x="11856" y="7359"/>
                  <a:pt x="11832" y="7466"/>
                </a:cubicBezTo>
                <a:cubicBezTo>
                  <a:pt x="11958" y="7492"/>
                  <a:pt x="11981" y="7457"/>
                  <a:pt x="12105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70280" y="2401920"/>
            <a:ext cx="277920" cy="179280"/>
          </a:xfrm>
          <a:custGeom>
            <a:avLst/>
            <a:gdLst/>
            <a:ahLst/>
            <a:rect l="l" t="t" r="r" b="b"/>
            <a:pathLst>
              <a:path w="770" h="498">
                <a:moveTo>
                  <a:pt x="13022" y="6871"/>
                </a:moveTo>
                <a:cubicBezTo>
                  <a:pt x="13081" y="6825"/>
                  <a:pt x="13126" y="6802"/>
                  <a:pt x="13196" y="6772"/>
                </a:cubicBezTo>
                <a:cubicBezTo>
                  <a:pt x="13167" y="6964"/>
                  <a:pt x="13112" y="7029"/>
                  <a:pt x="12973" y="7169"/>
                </a:cubicBezTo>
                <a:cubicBezTo>
                  <a:pt x="13057" y="7169"/>
                  <a:pt x="13110" y="7158"/>
                  <a:pt x="13196" y="7144"/>
                </a:cubicBezTo>
              </a:path>
              <a:path w="770" h="498">
                <a:moveTo>
                  <a:pt x="13494" y="6697"/>
                </a:moveTo>
                <a:cubicBezTo>
                  <a:pt x="13436" y="6812"/>
                  <a:pt x="13411" y="6851"/>
                  <a:pt x="13419" y="6970"/>
                </a:cubicBezTo>
                <a:cubicBezTo>
                  <a:pt x="13528" y="7035"/>
                  <a:pt x="13679" y="7024"/>
                  <a:pt x="13742" y="6871"/>
                </a:cubicBezTo>
                <a:cubicBezTo>
                  <a:pt x="13742" y="6763"/>
                  <a:pt x="13737" y="6723"/>
                  <a:pt x="13667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7240" y="2178000"/>
            <a:ext cx="347760" cy="189000"/>
          </a:xfrm>
          <a:custGeom>
            <a:avLst/>
            <a:gdLst/>
            <a:ahLst/>
            <a:rect l="l" t="t" r="r" b="b"/>
            <a:pathLst>
              <a:path w="968" h="522">
                <a:moveTo>
                  <a:pt x="14908" y="6176"/>
                </a:moveTo>
                <a:cubicBezTo>
                  <a:pt x="15037" y="6286"/>
                  <a:pt x="15137" y="6423"/>
                  <a:pt x="15255" y="6548"/>
                </a:cubicBezTo>
              </a:path>
              <a:path w="968" h="522">
                <a:moveTo>
                  <a:pt x="15255" y="6152"/>
                </a:moveTo>
                <a:cubicBezTo>
                  <a:pt x="15166" y="6304"/>
                  <a:pt x="15122" y="6402"/>
                  <a:pt x="15081" y="6573"/>
                </a:cubicBezTo>
              </a:path>
              <a:path w="968" h="522">
                <a:moveTo>
                  <a:pt x="15627" y="6102"/>
                </a:moveTo>
                <a:cubicBezTo>
                  <a:pt x="15734" y="6075"/>
                  <a:pt x="15775" y="6065"/>
                  <a:pt x="15850" y="6052"/>
                </a:cubicBezTo>
              </a:path>
              <a:path w="968" h="522">
                <a:moveTo>
                  <a:pt x="15602" y="6400"/>
                </a:moveTo>
                <a:cubicBezTo>
                  <a:pt x="15733" y="6347"/>
                  <a:pt x="15782" y="6328"/>
                  <a:pt x="15875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29200" y="2044800"/>
            <a:ext cx="152640" cy="23328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6520" y="5680"/>
                </a:moveTo>
                <a:cubicBezTo>
                  <a:pt x="16698" y="5733"/>
                  <a:pt x="16920" y="5879"/>
                  <a:pt x="16818" y="6127"/>
                </a:cubicBezTo>
                <a:cubicBezTo>
                  <a:pt x="16754" y="6283"/>
                  <a:pt x="16630" y="6301"/>
                  <a:pt x="16495" y="6325"/>
                </a:cubicBezTo>
                <a:cubicBezTo>
                  <a:pt x="16464" y="6233"/>
                  <a:pt x="16450" y="6085"/>
                  <a:pt x="16594" y="6077"/>
                </a:cubicBezTo>
                <a:cubicBezTo>
                  <a:pt x="16708" y="6071"/>
                  <a:pt x="16802" y="6146"/>
                  <a:pt x="16892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80120" y="2017800"/>
            <a:ext cx="160200" cy="196920"/>
          </a:xfrm>
          <a:custGeom>
            <a:avLst/>
            <a:gdLst/>
            <a:ahLst/>
            <a:rect l="l" t="t" r="r" b="b"/>
            <a:pathLst>
              <a:path w="447" h="547">
                <a:moveTo>
                  <a:pt x="17239" y="5680"/>
                </a:moveTo>
                <a:cubicBezTo>
                  <a:pt x="17193" y="5818"/>
                  <a:pt x="17060" y="6093"/>
                  <a:pt x="17289" y="6152"/>
                </a:cubicBezTo>
                <a:cubicBezTo>
                  <a:pt x="17456" y="6195"/>
                  <a:pt x="17577" y="6019"/>
                  <a:pt x="17611" y="5879"/>
                </a:cubicBezTo>
                <a:cubicBezTo>
                  <a:pt x="17656" y="5691"/>
                  <a:pt x="17483" y="5665"/>
                  <a:pt x="17363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3241800"/>
            <a:ext cx="588960" cy="687240"/>
          </a:xfrm>
          <a:custGeom>
            <a:avLst/>
            <a:gdLst/>
            <a:ahLst/>
            <a:rect l="l" t="t" r="r" b="b"/>
            <a:pathLst>
              <a:path w="1638" h="1911">
                <a:moveTo>
                  <a:pt x="10790" y="9302"/>
                </a:moveTo>
                <a:cubicBezTo>
                  <a:pt x="10874" y="9239"/>
                  <a:pt x="10957" y="9217"/>
                  <a:pt x="11063" y="9203"/>
                </a:cubicBezTo>
                <a:cubicBezTo>
                  <a:pt x="11153" y="9191"/>
                  <a:pt x="10949" y="9415"/>
                  <a:pt x="10939" y="9426"/>
                </a:cubicBezTo>
                <a:cubicBezTo>
                  <a:pt x="11003" y="9404"/>
                  <a:pt x="11260" y="9306"/>
                  <a:pt x="11237" y="9475"/>
                </a:cubicBezTo>
                <a:cubicBezTo>
                  <a:pt x="11215" y="9638"/>
                  <a:pt x="11056" y="9670"/>
                  <a:pt x="10939" y="9723"/>
                </a:cubicBezTo>
              </a:path>
              <a:path w="1638" h="1911">
                <a:moveTo>
                  <a:pt x="10790" y="9947"/>
                </a:moveTo>
                <a:cubicBezTo>
                  <a:pt x="11017" y="9905"/>
                  <a:pt x="11179" y="9901"/>
                  <a:pt x="11410" y="9922"/>
                </a:cubicBezTo>
              </a:path>
              <a:path w="1638" h="1911">
                <a:moveTo>
                  <a:pt x="10889" y="10319"/>
                </a:moveTo>
                <a:cubicBezTo>
                  <a:pt x="10882" y="10378"/>
                  <a:pt x="10871" y="10433"/>
                  <a:pt x="10864" y="10492"/>
                </a:cubicBezTo>
                <a:cubicBezTo>
                  <a:pt x="10991" y="10492"/>
                  <a:pt x="11035" y="10491"/>
                  <a:pt x="11112" y="10443"/>
                </a:cubicBezTo>
              </a:path>
              <a:path w="1638" h="1911">
                <a:moveTo>
                  <a:pt x="11261" y="10170"/>
                </a:moveTo>
                <a:cubicBezTo>
                  <a:pt x="11200" y="10336"/>
                  <a:pt x="11212" y="10485"/>
                  <a:pt x="11212" y="10666"/>
                </a:cubicBezTo>
                <a:cubicBezTo>
                  <a:pt x="11212" y="10691"/>
                  <a:pt x="11212" y="10715"/>
                  <a:pt x="11212" y="10740"/>
                </a:cubicBezTo>
              </a:path>
              <a:path w="1638" h="1911">
                <a:moveTo>
                  <a:pt x="11981" y="9847"/>
                </a:moveTo>
                <a:cubicBezTo>
                  <a:pt x="12072" y="9825"/>
                  <a:pt x="12098" y="9819"/>
                  <a:pt x="12154" y="9798"/>
                </a:cubicBezTo>
              </a:path>
              <a:path w="1638" h="1911">
                <a:moveTo>
                  <a:pt x="11857" y="10096"/>
                </a:moveTo>
                <a:cubicBezTo>
                  <a:pt x="11981" y="10065"/>
                  <a:pt x="12039" y="10049"/>
                  <a:pt x="12129" y="10021"/>
                </a:cubicBezTo>
              </a:path>
              <a:path w="1638" h="1911">
                <a:moveTo>
                  <a:pt x="11485" y="9029"/>
                </a:moveTo>
                <a:cubicBezTo>
                  <a:pt x="11558" y="9075"/>
                  <a:pt x="11582" y="9106"/>
                  <a:pt x="11633" y="9178"/>
                </a:cubicBezTo>
              </a:path>
              <a:path w="1638" h="1911">
                <a:moveTo>
                  <a:pt x="11633" y="9103"/>
                </a:moveTo>
                <a:cubicBezTo>
                  <a:pt x="11607" y="9211"/>
                  <a:pt x="11598" y="9252"/>
                  <a:pt x="11584" y="9327"/>
                </a:cubicBezTo>
              </a:path>
              <a:path w="1638" h="1911">
                <a:moveTo>
                  <a:pt x="12030" y="9004"/>
                </a:moveTo>
                <a:cubicBezTo>
                  <a:pt x="12030" y="9118"/>
                  <a:pt x="12066" y="9095"/>
                  <a:pt x="12179" y="9103"/>
                </a:cubicBezTo>
              </a:path>
              <a:path w="1638" h="1911">
                <a:moveTo>
                  <a:pt x="12278" y="9004"/>
                </a:moveTo>
                <a:cubicBezTo>
                  <a:pt x="12254" y="9153"/>
                  <a:pt x="12246" y="9203"/>
                  <a:pt x="12278" y="9302"/>
                </a:cubicBezTo>
              </a:path>
              <a:path w="1638" h="1911">
                <a:moveTo>
                  <a:pt x="11658" y="10616"/>
                </a:moveTo>
                <a:cubicBezTo>
                  <a:pt x="11705" y="10709"/>
                  <a:pt x="11707" y="10736"/>
                  <a:pt x="11782" y="10790"/>
                </a:cubicBezTo>
              </a:path>
              <a:path w="1638" h="1911">
                <a:moveTo>
                  <a:pt x="11906" y="10542"/>
                </a:moveTo>
                <a:cubicBezTo>
                  <a:pt x="11818" y="10645"/>
                  <a:pt x="11753" y="10746"/>
                  <a:pt x="11683" y="10864"/>
                </a:cubicBezTo>
              </a:path>
              <a:path w="1638" h="1911">
                <a:moveTo>
                  <a:pt x="12080" y="10616"/>
                </a:moveTo>
                <a:cubicBezTo>
                  <a:pt x="12114" y="10707"/>
                  <a:pt x="12068" y="10790"/>
                  <a:pt x="12204" y="10790"/>
                </a:cubicBezTo>
                <a:cubicBezTo>
                  <a:pt x="12237" y="10782"/>
                  <a:pt x="12270" y="10773"/>
                  <a:pt x="12303" y="10765"/>
                </a:cubicBezTo>
              </a:path>
              <a:path w="1638" h="1911">
                <a:moveTo>
                  <a:pt x="12427" y="10641"/>
                </a:moveTo>
                <a:cubicBezTo>
                  <a:pt x="12376" y="10770"/>
                  <a:pt x="12360" y="10816"/>
                  <a:pt x="12378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0000" y="3268800"/>
            <a:ext cx="758880" cy="679320"/>
          </a:xfrm>
          <a:custGeom>
            <a:avLst/>
            <a:gdLst/>
            <a:ahLst/>
            <a:rect l="l" t="t" r="r" b="b"/>
            <a:pathLst>
              <a:path w="2109" h="1886">
                <a:moveTo>
                  <a:pt x="12998" y="9178"/>
                </a:moveTo>
                <a:cubicBezTo>
                  <a:pt x="13030" y="9319"/>
                  <a:pt x="13065" y="9458"/>
                  <a:pt x="13097" y="9599"/>
                </a:cubicBezTo>
              </a:path>
              <a:path w="2109" h="1886">
                <a:moveTo>
                  <a:pt x="13419" y="9079"/>
                </a:moveTo>
                <a:cubicBezTo>
                  <a:pt x="13515" y="9112"/>
                  <a:pt x="13816" y="9224"/>
                  <a:pt x="13742" y="9401"/>
                </a:cubicBezTo>
                <a:cubicBezTo>
                  <a:pt x="13677" y="9556"/>
                  <a:pt x="13480" y="9595"/>
                  <a:pt x="13345" y="9575"/>
                </a:cubicBezTo>
                <a:cubicBezTo>
                  <a:pt x="13439" y="9402"/>
                  <a:pt x="13509" y="9451"/>
                  <a:pt x="13692" y="9500"/>
                </a:cubicBezTo>
              </a:path>
              <a:path w="2109" h="1886">
                <a:moveTo>
                  <a:pt x="13022" y="10071"/>
                </a:moveTo>
                <a:cubicBezTo>
                  <a:pt x="13301" y="10015"/>
                  <a:pt x="13583" y="10001"/>
                  <a:pt x="13866" y="9971"/>
                </a:cubicBezTo>
                <a:cubicBezTo>
                  <a:pt x="14015" y="9953"/>
                  <a:pt x="14031" y="9945"/>
                  <a:pt x="14114" y="9947"/>
                </a:cubicBezTo>
              </a:path>
              <a:path w="2109" h="1886">
                <a:moveTo>
                  <a:pt x="14784" y="9872"/>
                </a:moveTo>
                <a:cubicBezTo>
                  <a:pt x="14899" y="9872"/>
                  <a:pt x="14994" y="9850"/>
                  <a:pt x="15106" y="9823"/>
                </a:cubicBezTo>
              </a:path>
              <a:path w="2109" h="1886">
                <a:moveTo>
                  <a:pt x="14833" y="9996"/>
                </a:moveTo>
                <a:cubicBezTo>
                  <a:pt x="14939" y="9969"/>
                  <a:pt x="14979" y="9961"/>
                  <a:pt x="15056" y="9971"/>
                </a:cubicBezTo>
              </a:path>
              <a:path w="2109" h="1886">
                <a:moveTo>
                  <a:pt x="13767" y="10344"/>
                </a:moveTo>
                <a:cubicBezTo>
                  <a:pt x="13796" y="10465"/>
                  <a:pt x="13791" y="10589"/>
                  <a:pt x="13791" y="10716"/>
                </a:cubicBezTo>
              </a:path>
              <a:path w="2109" h="1886">
                <a:moveTo>
                  <a:pt x="14089" y="10319"/>
                </a:moveTo>
                <a:cubicBezTo>
                  <a:pt x="14089" y="10422"/>
                  <a:pt x="14046" y="10599"/>
                  <a:pt x="14139" y="10666"/>
                </a:cubicBezTo>
                <a:cubicBezTo>
                  <a:pt x="14257" y="10751"/>
                  <a:pt x="14322" y="10597"/>
                  <a:pt x="14362" y="10517"/>
                </a:cubicBezTo>
                <a:cubicBezTo>
                  <a:pt x="14267" y="10541"/>
                  <a:pt x="14237" y="10546"/>
                  <a:pt x="14213" y="10616"/>
                </a:cubicBezTo>
              </a:path>
              <a:path w="2109" h="1886">
                <a:moveTo>
                  <a:pt x="13568" y="10939"/>
                </a:moveTo>
                <a:cubicBezTo>
                  <a:pt x="13871" y="10972"/>
                  <a:pt x="14198" y="10997"/>
                  <a:pt x="14486" y="10864"/>
                </a:cubicBezTo>
                <a:cubicBezTo>
                  <a:pt x="14713" y="10759"/>
                  <a:pt x="14882" y="10500"/>
                  <a:pt x="14660" y="10294"/>
                </a:cubicBezTo>
                <a:cubicBezTo>
                  <a:pt x="14423" y="10074"/>
                  <a:pt x="13896" y="10230"/>
                  <a:pt x="13667" y="10368"/>
                </a:cubicBezTo>
                <a:cubicBezTo>
                  <a:pt x="13355" y="10555"/>
                  <a:pt x="13395" y="10656"/>
                  <a:pt x="1349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84920" y="3170160"/>
            <a:ext cx="741240" cy="374760"/>
          </a:xfrm>
          <a:custGeom>
            <a:avLst/>
            <a:gdLst/>
            <a:ahLst/>
            <a:rect l="l" t="t" r="r" b="b"/>
            <a:pathLst>
              <a:path w="2060" h="1042">
                <a:moveTo>
                  <a:pt x="16346" y="9327"/>
                </a:moveTo>
                <a:cubicBezTo>
                  <a:pt x="16492" y="9411"/>
                  <a:pt x="16578" y="9564"/>
                  <a:pt x="16718" y="9674"/>
                </a:cubicBezTo>
                <a:cubicBezTo>
                  <a:pt x="16743" y="9690"/>
                  <a:pt x="16768" y="9707"/>
                  <a:pt x="16793" y="9723"/>
                </a:cubicBezTo>
              </a:path>
              <a:path w="2060" h="1042">
                <a:moveTo>
                  <a:pt x="16768" y="9227"/>
                </a:moveTo>
                <a:cubicBezTo>
                  <a:pt x="16596" y="9425"/>
                  <a:pt x="16504" y="9609"/>
                  <a:pt x="16396" y="9847"/>
                </a:cubicBezTo>
              </a:path>
              <a:path w="2060" h="1042">
                <a:moveTo>
                  <a:pt x="16917" y="9302"/>
                </a:moveTo>
                <a:cubicBezTo>
                  <a:pt x="17042" y="9278"/>
                  <a:pt x="17165" y="9255"/>
                  <a:pt x="17289" y="9227"/>
                </a:cubicBezTo>
              </a:path>
              <a:path w="2060" h="1042">
                <a:moveTo>
                  <a:pt x="17041" y="9525"/>
                </a:moveTo>
                <a:cubicBezTo>
                  <a:pt x="17150" y="9470"/>
                  <a:pt x="17193" y="9448"/>
                  <a:pt x="17264" y="9401"/>
                </a:cubicBezTo>
              </a:path>
              <a:path w="2060" h="1042">
                <a:moveTo>
                  <a:pt x="17587" y="8880"/>
                </a:moveTo>
                <a:cubicBezTo>
                  <a:pt x="17632" y="9051"/>
                  <a:pt x="17654" y="9227"/>
                  <a:pt x="17686" y="9401"/>
                </a:cubicBezTo>
              </a:path>
              <a:path w="2060" h="1042">
                <a:moveTo>
                  <a:pt x="17983" y="8806"/>
                </a:moveTo>
                <a:cubicBezTo>
                  <a:pt x="17959" y="8911"/>
                  <a:pt x="17883" y="9120"/>
                  <a:pt x="17934" y="9227"/>
                </a:cubicBezTo>
                <a:cubicBezTo>
                  <a:pt x="17985" y="9334"/>
                  <a:pt x="18151" y="9405"/>
                  <a:pt x="18256" y="9351"/>
                </a:cubicBezTo>
                <a:cubicBezTo>
                  <a:pt x="18379" y="9288"/>
                  <a:pt x="18387" y="9221"/>
                  <a:pt x="18405" y="9103"/>
                </a:cubicBezTo>
                <a:cubicBezTo>
                  <a:pt x="18260" y="9093"/>
                  <a:pt x="18134" y="9154"/>
                  <a:pt x="18058" y="9302"/>
                </a:cubicBezTo>
                <a:cubicBezTo>
                  <a:pt x="18050" y="9335"/>
                  <a:pt x="18041" y="9368"/>
                  <a:pt x="18033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11760" y="4330800"/>
            <a:ext cx="1241280" cy="1670040"/>
          </a:xfrm>
          <a:custGeom>
            <a:avLst/>
            <a:gdLst/>
            <a:ahLst/>
            <a:rect l="l" t="t" r="r" b="b"/>
            <a:pathLst>
              <a:path w="3449" h="4640">
                <a:moveTo>
                  <a:pt x="11336" y="12502"/>
                </a:moveTo>
                <a:cubicBezTo>
                  <a:pt x="11253" y="12502"/>
                  <a:pt x="11171" y="12502"/>
                  <a:pt x="11088" y="12502"/>
                </a:cubicBezTo>
                <a:cubicBezTo>
                  <a:pt x="11098" y="12619"/>
                  <a:pt x="11107" y="12740"/>
                  <a:pt x="11137" y="12849"/>
                </a:cubicBezTo>
                <a:cubicBezTo>
                  <a:pt x="11238" y="12820"/>
                  <a:pt x="11346" y="12710"/>
                  <a:pt x="11460" y="12725"/>
                </a:cubicBezTo>
                <a:cubicBezTo>
                  <a:pt x="11553" y="12771"/>
                  <a:pt x="11582" y="12782"/>
                  <a:pt x="11609" y="12849"/>
                </a:cubicBezTo>
                <a:cubicBezTo>
                  <a:pt x="11514" y="13011"/>
                  <a:pt x="11420" y="13045"/>
                  <a:pt x="11237" y="13072"/>
                </a:cubicBezTo>
              </a:path>
              <a:path w="3449" h="4640">
                <a:moveTo>
                  <a:pt x="10864" y="13320"/>
                </a:moveTo>
                <a:cubicBezTo>
                  <a:pt x="11116" y="13291"/>
                  <a:pt x="11356" y="13207"/>
                  <a:pt x="11609" y="13171"/>
                </a:cubicBezTo>
                <a:cubicBezTo>
                  <a:pt x="11765" y="13151"/>
                  <a:pt x="11790" y="13143"/>
                  <a:pt x="11881" y="13146"/>
                </a:cubicBezTo>
              </a:path>
              <a:path w="3449" h="4640">
                <a:moveTo>
                  <a:pt x="12378" y="13221"/>
                </a:moveTo>
                <a:cubicBezTo>
                  <a:pt x="12484" y="13203"/>
                  <a:pt x="12593" y="13169"/>
                  <a:pt x="12700" y="13146"/>
                </a:cubicBezTo>
              </a:path>
              <a:path w="3449" h="4640">
                <a:moveTo>
                  <a:pt x="12526" y="13320"/>
                </a:moveTo>
                <a:cubicBezTo>
                  <a:pt x="12650" y="13295"/>
                  <a:pt x="12691" y="13287"/>
                  <a:pt x="12774" y="13271"/>
                </a:cubicBezTo>
              </a:path>
              <a:path w="3449" h="4640">
                <a:moveTo>
                  <a:pt x="13196" y="12601"/>
                </a:moveTo>
                <a:cubicBezTo>
                  <a:pt x="13221" y="12725"/>
                  <a:pt x="13229" y="12766"/>
                  <a:pt x="13246" y="12849"/>
                </a:cubicBezTo>
              </a:path>
              <a:path w="3449" h="4640">
                <a:moveTo>
                  <a:pt x="13593" y="12328"/>
                </a:moveTo>
                <a:cubicBezTo>
                  <a:pt x="13567" y="12367"/>
                  <a:pt x="13498" y="12465"/>
                  <a:pt x="13568" y="12502"/>
                </a:cubicBezTo>
                <a:cubicBezTo>
                  <a:pt x="13668" y="12555"/>
                  <a:pt x="13769" y="12591"/>
                  <a:pt x="13866" y="12650"/>
                </a:cubicBezTo>
                <a:cubicBezTo>
                  <a:pt x="13837" y="12768"/>
                  <a:pt x="13822" y="12736"/>
                  <a:pt x="13692" y="12774"/>
                </a:cubicBezTo>
              </a:path>
              <a:path w="3449" h="4640">
                <a:moveTo>
                  <a:pt x="13767" y="12254"/>
                </a:moveTo>
                <a:cubicBezTo>
                  <a:pt x="13866" y="12221"/>
                  <a:pt x="13916" y="12204"/>
                  <a:pt x="13990" y="12179"/>
                </a:cubicBezTo>
              </a:path>
              <a:path w="3449" h="4640">
                <a:moveTo>
                  <a:pt x="13295" y="13072"/>
                </a:moveTo>
                <a:cubicBezTo>
                  <a:pt x="13423" y="13072"/>
                  <a:pt x="13591" y="13023"/>
                  <a:pt x="13717" y="12998"/>
                </a:cubicBezTo>
                <a:cubicBezTo>
                  <a:pt x="13915" y="12954"/>
                  <a:pt x="13964" y="12941"/>
                  <a:pt x="14089" y="12923"/>
                </a:cubicBezTo>
              </a:path>
              <a:path w="3449" h="4640">
                <a:moveTo>
                  <a:pt x="13469" y="13370"/>
                </a:moveTo>
                <a:cubicBezTo>
                  <a:pt x="13577" y="13348"/>
                  <a:pt x="13603" y="13335"/>
                  <a:pt x="13667" y="13370"/>
                </a:cubicBezTo>
                <a:cubicBezTo>
                  <a:pt x="13629" y="13503"/>
                  <a:pt x="13623" y="13489"/>
                  <a:pt x="13494" y="13568"/>
                </a:cubicBezTo>
                <a:cubicBezTo>
                  <a:pt x="13536" y="13576"/>
                  <a:pt x="13756" y="13617"/>
                  <a:pt x="13742" y="13692"/>
                </a:cubicBezTo>
                <a:cubicBezTo>
                  <a:pt x="13714" y="13844"/>
                  <a:pt x="13478" y="13835"/>
                  <a:pt x="13370" y="13841"/>
                </a:cubicBezTo>
              </a:path>
              <a:path w="3449" h="4640">
                <a:moveTo>
                  <a:pt x="13990" y="13395"/>
                </a:moveTo>
                <a:cubicBezTo>
                  <a:pt x="13924" y="13501"/>
                  <a:pt x="13806" y="13686"/>
                  <a:pt x="14039" y="13692"/>
                </a:cubicBezTo>
                <a:cubicBezTo>
                  <a:pt x="14194" y="13696"/>
                  <a:pt x="14388" y="13539"/>
                  <a:pt x="14288" y="13370"/>
                </a:cubicBezTo>
                <a:cubicBezTo>
                  <a:pt x="14246" y="13329"/>
                  <a:pt x="14205" y="13287"/>
                  <a:pt x="14163" y="13246"/>
                </a:cubicBezTo>
              </a:path>
              <a:path w="3449" h="4640">
                <a:moveTo>
                  <a:pt x="11832" y="12328"/>
                </a:moveTo>
                <a:cubicBezTo>
                  <a:pt x="11865" y="12433"/>
                  <a:pt x="11899" y="12507"/>
                  <a:pt x="11956" y="12601"/>
                </a:cubicBezTo>
              </a:path>
              <a:path w="3449" h="4640">
                <a:moveTo>
                  <a:pt x="12005" y="12378"/>
                </a:moveTo>
                <a:cubicBezTo>
                  <a:pt x="11958" y="12519"/>
                  <a:pt x="11945" y="12561"/>
                  <a:pt x="11906" y="12650"/>
                </a:cubicBezTo>
              </a:path>
              <a:path w="3449" h="4640">
                <a:moveTo>
                  <a:pt x="12378" y="12105"/>
                </a:moveTo>
                <a:cubicBezTo>
                  <a:pt x="12464" y="12065"/>
                  <a:pt x="12534" y="12043"/>
                  <a:pt x="12626" y="12030"/>
                </a:cubicBezTo>
                <a:cubicBezTo>
                  <a:pt x="12639" y="12116"/>
                  <a:pt x="12538" y="12215"/>
                  <a:pt x="12477" y="12303"/>
                </a:cubicBezTo>
                <a:cubicBezTo>
                  <a:pt x="12630" y="12267"/>
                  <a:pt x="12697" y="12258"/>
                  <a:pt x="12750" y="12402"/>
                </a:cubicBezTo>
                <a:cubicBezTo>
                  <a:pt x="12666" y="12458"/>
                  <a:pt x="12632" y="12482"/>
                  <a:pt x="12576" y="12526"/>
                </a:cubicBezTo>
              </a:path>
              <a:path w="3449" h="4640">
                <a:moveTo>
                  <a:pt x="11956" y="13866"/>
                </a:moveTo>
                <a:cubicBezTo>
                  <a:pt x="12057" y="13889"/>
                  <a:pt x="12114" y="13928"/>
                  <a:pt x="12204" y="13990"/>
                </a:cubicBezTo>
              </a:path>
              <a:path w="3449" h="4640">
                <a:moveTo>
                  <a:pt x="12303" y="13816"/>
                </a:moveTo>
                <a:cubicBezTo>
                  <a:pt x="12212" y="13898"/>
                  <a:pt x="12181" y="13974"/>
                  <a:pt x="12129" y="14089"/>
                </a:cubicBezTo>
              </a:path>
              <a:path w="3449" h="4640">
                <a:moveTo>
                  <a:pt x="12601" y="13667"/>
                </a:moveTo>
                <a:cubicBezTo>
                  <a:pt x="12651" y="13677"/>
                  <a:pt x="12905" y="13675"/>
                  <a:pt x="12824" y="13767"/>
                </a:cubicBezTo>
                <a:cubicBezTo>
                  <a:pt x="12744" y="13820"/>
                  <a:pt x="12712" y="13840"/>
                  <a:pt x="12650" y="13866"/>
                </a:cubicBezTo>
                <a:cubicBezTo>
                  <a:pt x="12642" y="13874"/>
                  <a:pt x="12634" y="13883"/>
                  <a:pt x="12626" y="13891"/>
                </a:cubicBezTo>
                <a:cubicBezTo>
                  <a:pt x="12676" y="13891"/>
                  <a:pt x="12954" y="13858"/>
                  <a:pt x="12874" y="13990"/>
                </a:cubicBezTo>
                <a:cubicBezTo>
                  <a:pt x="12787" y="14047"/>
                  <a:pt x="12748" y="14069"/>
                  <a:pt x="12675" y="14089"/>
                </a:cubicBezTo>
              </a:path>
              <a:path w="3449" h="4640">
                <a:moveTo>
                  <a:pt x="10988" y="13568"/>
                </a:moveTo>
                <a:cubicBezTo>
                  <a:pt x="11037" y="13692"/>
                  <a:pt x="11070" y="13813"/>
                  <a:pt x="11112" y="13940"/>
                </a:cubicBezTo>
              </a:path>
              <a:path w="3449" h="4640">
                <a:moveTo>
                  <a:pt x="11435" y="13519"/>
                </a:moveTo>
                <a:cubicBezTo>
                  <a:pt x="11354" y="13667"/>
                  <a:pt x="11327" y="13707"/>
                  <a:pt x="11336" y="13866"/>
                </a:cubicBezTo>
                <a:cubicBezTo>
                  <a:pt x="11480" y="13927"/>
                  <a:pt x="11672" y="13934"/>
                  <a:pt x="11708" y="13717"/>
                </a:cubicBezTo>
                <a:cubicBezTo>
                  <a:pt x="11734" y="13564"/>
                  <a:pt x="11578" y="13549"/>
                  <a:pt x="11485" y="13519"/>
                </a:cubicBezTo>
              </a:path>
              <a:path w="3449" h="4640">
                <a:moveTo>
                  <a:pt x="10939" y="15949"/>
                </a:moveTo>
                <a:cubicBezTo>
                  <a:pt x="11214" y="15863"/>
                  <a:pt x="11492" y="15802"/>
                  <a:pt x="11782" y="15776"/>
                </a:cubicBezTo>
                <a:cubicBezTo>
                  <a:pt x="11815" y="15776"/>
                  <a:pt x="11848" y="15776"/>
                  <a:pt x="11881" y="15776"/>
                </a:cubicBezTo>
              </a:path>
              <a:path w="3449" h="4640">
                <a:moveTo>
                  <a:pt x="11534" y="15925"/>
                </a:moveTo>
                <a:cubicBezTo>
                  <a:pt x="11443" y="16014"/>
                  <a:pt x="11320" y="16078"/>
                  <a:pt x="11261" y="16197"/>
                </a:cubicBezTo>
                <a:cubicBezTo>
                  <a:pt x="11261" y="16222"/>
                  <a:pt x="11261" y="16247"/>
                  <a:pt x="11261" y="16272"/>
                </a:cubicBezTo>
                <a:cubicBezTo>
                  <a:pt x="11373" y="16335"/>
                  <a:pt x="11594" y="16375"/>
                  <a:pt x="11658" y="16495"/>
                </a:cubicBezTo>
                <a:cubicBezTo>
                  <a:pt x="11731" y="16632"/>
                  <a:pt x="11467" y="16698"/>
                  <a:pt x="11385" y="16669"/>
                </a:cubicBezTo>
                <a:cubicBezTo>
                  <a:pt x="11369" y="16652"/>
                  <a:pt x="11352" y="16636"/>
                  <a:pt x="11336" y="16619"/>
                </a:cubicBezTo>
                <a:cubicBezTo>
                  <a:pt x="11394" y="16416"/>
                  <a:pt x="11494" y="16241"/>
                  <a:pt x="11584" y="16049"/>
                </a:cubicBezTo>
                <a:cubicBezTo>
                  <a:pt x="11592" y="16032"/>
                  <a:pt x="11601" y="16016"/>
                  <a:pt x="11609" y="15999"/>
                </a:cubicBezTo>
              </a:path>
              <a:path w="3449" h="4640">
                <a:moveTo>
                  <a:pt x="12204" y="15825"/>
                </a:moveTo>
                <a:cubicBezTo>
                  <a:pt x="12315" y="15899"/>
                  <a:pt x="12375" y="15997"/>
                  <a:pt x="12477" y="16073"/>
                </a:cubicBezTo>
              </a:path>
              <a:path w="3449" h="4640">
                <a:moveTo>
                  <a:pt x="12526" y="15776"/>
                </a:moveTo>
                <a:cubicBezTo>
                  <a:pt x="12449" y="15886"/>
                  <a:pt x="12397" y="15972"/>
                  <a:pt x="12353" y="16098"/>
                </a:cubicBezTo>
              </a:path>
              <a:path w="3449" h="4640">
                <a:moveTo>
                  <a:pt x="13271" y="15999"/>
                </a:moveTo>
                <a:cubicBezTo>
                  <a:pt x="13221" y="16024"/>
                  <a:pt x="13205" y="16032"/>
                  <a:pt x="13196" y="16073"/>
                </a:cubicBezTo>
                <a:cubicBezTo>
                  <a:pt x="13295" y="16083"/>
                  <a:pt x="13378" y="16107"/>
                  <a:pt x="13469" y="16148"/>
                </a:cubicBezTo>
                <a:cubicBezTo>
                  <a:pt x="13418" y="16223"/>
                  <a:pt x="13308" y="16366"/>
                  <a:pt x="13196" y="16346"/>
                </a:cubicBezTo>
                <a:cubicBezTo>
                  <a:pt x="13171" y="16330"/>
                  <a:pt x="13147" y="16313"/>
                  <a:pt x="13122" y="16297"/>
                </a:cubicBezTo>
              </a:path>
              <a:path w="3449" h="4640">
                <a:moveTo>
                  <a:pt x="13246" y="15949"/>
                </a:moveTo>
                <a:cubicBezTo>
                  <a:pt x="13344" y="15866"/>
                  <a:pt x="13396" y="15839"/>
                  <a:pt x="13519" y="15801"/>
                </a:cubicBezTo>
              </a:path>
              <a:path w="3449" h="4640">
                <a:moveTo>
                  <a:pt x="13271" y="15677"/>
                </a:moveTo>
                <a:cubicBezTo>
                  <a:pt x="13312" y="15652"/>
                  <a:pt x="13354" y="15627"/>
                  <a:pt x="13395" y="15602"/>
                </a:cubicBezTo>
              </a:path>
              <a:path w="3449" h="4640">
                <a:moveTo>
                  <a:pt x="13097" y="15032"/>
                </a:moveTo>
                <a:cubicBezTo>
                  <a:pt x="13077" y="15072"/>
                  <a:pt x="13068" y="15078"/>
                  <a:pt x="13072" y="15106"/>
                </a:cubicBezTo>
                <a:cubicBezTo>
                  <a:pt x="13120" y="15122"/>
                  <a:pt x="13277" y="15122"/>
                  <a:pt x="13295" y="15180"/>
                </a:cubicBezTo>
                <a:cubicBezTo>
                  <a:pt x="13295" y="15260"/>
                  <a:pt x="13292" y="15288"/>
                  <a:pt x="13246" y="15329"/>
                </a:cubicBezTo>
              </a:path>
              <a:path w="3449" h="4640">
                <a:moveTo>
                  <a:pt x="13246" y="14833"/>
                </a:moveTo>
                <a:cubicBezTo>
                  <a:pt x="13279" y="14808"/>
                  <a:pt x="13312" y="14784"/>
                  <a:pt x="13345" y="14759"/>
                </a:cubicBezTo>
              </a:path>
              <a:path w="3449" h="4640">
                <a:moveTo>
                  <a:pt x="11212" y="14908"/>
                </a:moveTo>
                <a:cubicBezTo>
                  <a:pt x="11105" y="14908"/>
                  <a:pt x="10987" y="14865"/>
                  <a:pt x="10939" y="14982"/>
                </a:cubicBezTo>
                <a:cubicBezTo>
                  <a:pt x="10916" y="15074"/>
                  <a:pt x="10910" y="15099"/>
                  <a:pt x="10889" y="15156"/>
                </a:cubicBezTo>
                <a:cubicBezTo>
                  <a:pt x="10976" y="15147"/>
                  <a:pt x="11137" y="15101"/>
                  <a:pt x="11212" y="15180"/>
                </a:cubicBezTo>
                <a:cubicBezTo>
                  <a:pt x="11329" y="15303"/>
                  <a:pt x="11190" y="15467"/>
                  <a:pt x="11063" y="15503"/>
                </a:cubicBezTo>
                <a:cubicBezTo>
                  <a:pt x="11022" y="15503"/>
                  <a:pt x="10980" y="15503"/>
                  <a:pt x="10939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99080" y="4483080"/>
            <a:ext cx="12528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5553" y="12576"/>
                </a:moveTo>
                <a:cubicBezTo>
                  <a:pt x="15664" y="12700"/>
                  <a:pt x="15779" y="12809"/>
                  <a:pt x="15900" y="12923"/>
                </a:cubicBezTo>
              </a:path>
              <a:path w="348" h="547">
                <a:moveTo>
                  <a:pt x="15850" y="12452"/>
                </a:moveTo>
                <a:cubicBezTo>
                  <a:pt x="15785" y="12632"/>
                  <a:pt x="15727" y="12813"/>
                  <a:pt x="15677" y="129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75200" y="4456080"/>
            <a:ext cx="117720" cy="108000"/>
          </a:xfrm>
          <a:custGeom>
            <a:avLst/>
            <a:gdLst/>
            <a:ahLst/>
            <a:rect l="l" t="t" r="r" b="b"/>
            <a:pathLst>
              <a:path w="324" h="298">
                <a:moveTo>
                  <a:pt x="16321" y="12452"/>
                </a:moveTo>
                <a:cubicBezTo>
                  <a:pt x="16420" y="12427"/>
                  <a:pt x="16520" y="12402"/>
                  <a:pt x="16619" y="12378"/>
                </a:cubicBezTo>
              </a:path>
              <a:path w="324" h="298">
                <a:moveTo>
                  <a:pt x="16321" y="12675"/>
                </a:moveTo>
                <a:cubicBezTo>
                  <a:pt x="16429" y="12648"/>
                  <a:pt x="16536" y="12624"/>
                  <a:pt x="16644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05680" y="4330800"/>
            <a:ext cx="304560" cy="223560"/>
          </a:xfrm>
          <a:custGeom>
            <a:avLst/>
            <a:gdLst/>
            <a:ahLst/>
            <a:rect l="l" t="t" r="r" b="b"/>
            <a:pathLst>
              <a:path w="845" h="621">
                <a:moveTo>
                  <a:pt x="17239" y="12055"/>
                </a:moveTo>
                <a:cubicBezTo>
                  <a:pt x="17250" y="12254"/>
                  <a:pt x="17281" y="12450"/>
                  <a:pt x="17289" y="12650"/>
                </a:cubicBezTo>
              </a:path>
              <a:path w="845" h="621">
                <a:moveTo>
                  <a:pt x="17611" y="12080"/>
                </a:moveTo>
                <a:cubicBezTo>
                  <a:pt x="17525" y="12225"/>
                  <a:pt x="17324" y="12520"/>
                  <a:pt x="17661" y="12551"/>
                </a:cubicBezTo>
                <a:cubicBezTo>
                  <a:pt x="17858" y="12569"/>
                  <a:pt x="18138" y="12431"/>
                  <a:pt x="18058" y="12204"/>
                </a:cubicBezTo>
                <a:cubicBezTo>
                  <a:pt x="17970" y="12088"/>
                  <a:pt x="17925" y="12046"/>
                  <a:pt x="17810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26040" y="5313240"/>
            <a:ext cx="544680" cy="588960"/>
          </a:xfrm>
          <a:custGeom>
            <a:avLst/>
            <a:gdLst/>
            <a:ahLst/>
            <a:rect l="l" t="t" r="r" b="b"/>
            <a:pathLst>
              <a:path w="1514" h="1638">
                <a:moveTo>
                  <a:pt x="14238" y="15677"/>
                </a:moveTo>
                <a:cubicBezTo>
                  <a:pt x="14349" y="15640"/>
                  <a:pt x="14448" y="15594"/>
                  <a:pt x="14560" y="15577"/>
                </a:cubicBezTo>
              </a:path>
              <a:path w="1514" h="1638">
                <a:moveTo>
                  <a:pt x="14288" y="15875"/>
                </a:moveTo>
                <a:cubicBezTo>
                  <a:pt x="14370" y="15847"/>
                  <a:pt x="14402" y="15837"/>
                  <a:pt x="14461" y="15825"/>
                </a:cubicBezTo>
              </a:path>
              <a:path w="1514" h="1638">
                <a:moveTo>
                  <a:pt x="14883" y="14759"/>
                </a:moveTo>
                <a:cubicBezTo>
                  <a:pt x="15012" y="14876"/>
                  <a:pt x="15065" y="15009"/>
                  <a:pt x="14957" y="15180"/>
                </a:cubicBezTo>
                <a:cubicBezTo>
                  <a:pt x="14883" y="15297"/>
                  <a:pt x="14779" y="15329"/>
                  <a:pt x="14660" y="15354"/>
                </a:cubicBezTo>
                <a:cubicBezTo>
                  <a:pt x="14607" y="15213"/>
                  <a:pt x="14684" y="15165"/>
                  <a:pt x="14833" y="15205"/>
                </a:cubicBezTo>
                <a:cubicBezTo>
                  <a:pt x="14923" y="15229"/>
                  <a:pt x="15020" y="15290"/>
                  <a:pt x="15106" y="15329"/>
                </a:cubicBezTo>
              </a:path>
              <a:path w="1514" h="1638">
                <a:moveTo>
                  <a:pt x="15205" y="14932"/>
                </a:moveTo>
                <a:cubicBezTo>
                  <a:pt x="15197" y="14949"/>
                  <a:pt x="15188" y="14965"/>
                  <a:pt x="15180" y="14982"/>
                </a:cubicBezTo>
                <a:cubicBezTo>
                  <a:pt x="15259" y="15014"/>
                  <a:pt x="15457" y="15053"/>
                  <a:pt x="15478" y="15156"/>
                </a:cubicBezTo>
                <a:cubicBezTo>
                  <a:pt x="15452" y="15234"/>
                  <a:pt x="15440" y="15260"/>
                  <a:pt x="15379" y="15280"/>
                </a:cubicBezTo>
              </a:path>
              <a:path w="1514" h="1638">
                <a:moveTo>
                  <a:pt x="15280" y="14833"/>
                </a:moveTo>
                <a:cubicBezTo>
                  <a:pt x="15443" y="14795"/>
                  <a:pt x="15561" y="14780"/>
                  <a:pt x="15726" y="14808"/>
                </a:cubicBezTo>
              </a:path>
              <a:path w="1514" h="1638">
                <a:moveTo>
                  <a:pt x="14908" y="15825"/>
                </a:moveTo>
                <a:cubicBezTo>
                  <a:pt x="15107" y="15721"/>
                  <a:pt x="15300" y="15648"/>
                  <a:pt x="15528" y="15627"/>
                </a:cubicBezTo>
                <a:cubicBezTo>
                  <a:pt x="15569" y="15627"/>
                  <a:pt x="15611" y="15627"/>
                  <a:pt x="15652" y="15627"/>
                </a:cubicBezTo>
              </a:path>
              <a:path w="1514" h="1638">
                <a:moveTo>
                  <a:pt x="15032" y="15974"/>
                </a:moveTo>
                <a:cubicBezTo>
                  <a:pt x="15019" y="16050"/>
                  <a:pt x="14991" y="16120"/>
                  <a:pt x="14982" y="16197"/>
                </a:cubicBezTo>
                <a:cubicBezTo>
                  <a:pt x="15064" y="16197"/>
                  <a:pt x="15124" y="16189"/>
                  <a:pt x="15205" y="16173"/>
                </a:cubicBezTo>
              </a:path>
              <a:path w="1514" h="1638">
                <a:moveTo>
                  <a:pt x="15404" y="15875"/>
                </a:moveTo>
                <a:cubicBezTo>
                  <a:pt x="15309" y="16017"/>
                  <a:pt x="15205" y="16179"/>
                  <a:pt x="15156" y="16346"/>
                </a:cubicBezTo>
                <a:cubicBezTo>
                  <a:pt x="15156" y="16363"/>
                  <a:pt x="15156" y="16379"/>
                  <a:pt x="15156" y="16396"/>
                </a:cubicBezTo>
              </a:path>
              <a:path w="1514" h="1638">
                <a:moveTo>
                  <a:pt x="15677" y="15850"/>
                </a:moveTo>
                <a:cubicBezTo>
                  <a:pt x="15541" y="15956"/>
                  <a:pt x="15441" y="16015"/>
                  <a:pt x="15478" y="16197"/>
                </a:cubicBezTo>
                <a:cubicBezTo>
                  <a:pt x="15615" y="16187"/>
                  <a:pt x="15771" y="16163"/>
                  <a:pt x="15751" y="15974"/>
                </a:cubicBezTo>
                <a:cubicBezTo>
                  <a:pt x="15734" y="15941"/>
                  <a:pt x="15718" y="15908"/>
                  <a:pt x="15701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9840" y="5214960"/>
            <a:ext cx="590400" cy="366840"/>
          </a:xfrm>
          <a:custGeom>
            <a:avLst/>
            <a:gdLst/>
            <a:ahLst/>
            <a:rect l="l" t="t" r="r" b="b"/>
            <a:pathLst>
              <a:path w="1638" h="1018">
                <a:moveTo>
                  <a:pt x="16446" y="15081"/>
                </a:moveTo>
                <a:cubicBezTo>
                  <a:pt x="16547" y="15132"/>
                  <a:pt x="16639" y="15318"/>
                  <a:pt x="16718" y="15429"/>
                </a:cubicBezTo>
                <a:cubicBezTo>
                  <a:pt x="16735" y="15454"/>
                  <a:pt x="16751" y="15478"/>
                  <a:pt x="16768" y="15503"/>
                </a:cubicBezTo>
              </a:path>
              <a:path w="1638" h="1018">
                <a:moveTo>
                  <a:pt x="16644" y="15131"/>
                </a:moveTo>
                <a:cubicBezTo>
                  <a:pt x="16606" y="15262"/>
                  <a:pt x="16579" y="15367"/>
                  <a:pt x="16570" y="15503"/>
                </a:cubicBezTo>
              </a:path>
              <a:path w="1638" h="1018">
                <a:moveTo>
                  <a:pt x="16966" y="15056"/>
                </a:moveTo>
                <a:cubicBezTo>
                  <a:pt x="17062" y="15009"/>
                  <a:pt x="17092" y="14992"/>
                  <a:pt x="17165" y="15007"/>
                </a:cubicBezTo>
              </a:path>
              <a:path w="1638" h="1018">
                <a:moveTo>
                  <a:pt x="16942" y="15255"/>
                </a:moveTo>
                <a:cubicBezTo>
                  <a:pt x="16991" y="15230"/>
                  <a:pt x="17041" y="15205"/>
                  <a:pt x="17090" y="15180"/>
                </a:cubicBezTo>
              </a:path>
              <a:path w="1638" h="1018">
                <a:moveTo>
                  <a:pt x="17835" y="14486"/>
                </a:moveTo>
                <a:cubicBezTo>
                  <a:pt x="17645" y="14499"/>
                  <a:pt x="17692" y="14494"/>
                  <a:pt x="17611" y="14635"/>
                </a:cubicBezTo>
                <a:cubicBezTo>
                  <a:pt x="17549" y="14742"/>
                  <a:pt x="17511" y="14731"/>
                  <a:pt x="17562" y="14833"/>
                </a:cubicBezTo>
                <a:cubicBezTo>
                  <a:pt x="17724" y="14793"/>
                  <a:pt x="17895" y="14686"/>
                  <a:pt x="18033" y="14833"/>
                </a:cubicBezTo>
                <a:cubicBezTo>
                  <a:pt x="18222" y="15035"/>
                  <a:pt x="17911" y="15173"/>
                  <a:pt x="17760" y="15205"/>
                </a:cubicBezTo>
                <a:cubicBezTo>
                  <a:pt x="17686" y="15213"/>
                  <a:pt x="17611" y="15222"/>
                  <a:pt x="17537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bjective :  Students will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identify and determine equivalent ratios</a:t>
            </a:r>
            <a:endParaRPr b="1" lang="en-US" sz="2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hallenge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, B and C are numbers.   The ratio of A to B is 3 to 5.  The ratio of B to C is 1 to 2.  What is the sum of A, B and C?  (Hint:  The value of B does not change.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0" name=""/>
          <p:cNvSpPr/>
          <p:nvPr/>
        </p:nvSpPr>
        <p:spPr>
          <a:xfrm>
            <a:off x="2490840" y="4143240"/>
            <a:ext cx="671400" cy="642960"/>
          </a:xfrm>
          <a:custGeom>
            <a:avLst/>
            <a:gdLst/>
            <a:ahLst/>
            <a:rect l="l" t="t" r="r" b="b"/>
            <a:pathLst>
              <a:path w="1861" h="1787">
                <a:moveTo>
                  <a:pt x="6970" y="11931"/>
                </a:moveTo>
                <a:cubicBezTo>
                  <a:pt x="6948" y="12063"/>
                  <a:pt x="6940" y="12095"/>
                  <a:pt x="6945" y="12179"/>
                </a:cubicBezTo>
                <a:cubicBezTo>
                  <a:pt x="6922" y="11970"/>
                  <a:pt x="6928" y="11789"/>
                  <a:pt x="7119" y="11658"/>
                </a:cubicBezTo>
                <a:cubicBezTo>
                  <a:pt x="7297" y="11535"/>
                  <a:pt x="7419" y="11697"/>
                  <a:pt x="7293" y="11857"/>
                </a:cubicBezTo>
                <a:cubicBezTo>
                  <a:pt x="7200" y="11926"/>
                  <a:pt x="7175" y="11951"/>
                  <a:pt x="7094" y="11931"/>
                </a:cubicBezTo>
                <a:cubicBezTo>
                  <a:pt x="7185" y="11900"/>
                  <a:pt x="7485" y="11862"/>
                  <a:pt x="7491" y="12055"/>
                </a:cubicBezTo>
                <a:cubicBezTo>
                  <a:pt x="7496" y="12233"/>
                  <a:pt x="7147" y="12343"/>
                  <a:pt x="7020" y="12278"/>
                </a:cubicBezTo>
                <a:cubicBezTo>
                  <a:pt x="6995" y="12245"/>
                  <a:pt x="6970" y="12212"/>
                  <a:pt x="6945" y="12179"/>
                </a:cubicBezTo>
              </a:path>
              <a:path w="1861" h="1787">
                <a:moveTo>
                  <a:pt x="7838" y="11733"/>
                </a:moveTo>
                <a:lnTo>
                  <a:pt x="7838" y="11733"/>
                </a:lnTo>
              </a:path>
              <a:path w="1861" h="1787">
                <a:moveTo>
                  <a:pt x="7789" y="12055"/>
                </a:moveTo>
                <a:lnTo>
                  <a:pt x="7789" y="12055"/>
                </a:lnTo>
              </a:path>
              <a:path w="1861" h="1787">
                <a:moveTo>
                  <a:pt x="8731" y="11609"/>
                </a:moveTo>
                <a:cubicBezTo>
                  <a:pt x="8731" y="11609"/>
                  <a:pt x="8650" y="11552"/>
                  <a:pt x="8607" y="11509"/>
                </a:cubicBezTo>
                <a:cubicBezTo>
                  <a:pt x="8474" y="11604"/>
                  <a:pt x="8207" y="11820"/>
                  <a:pt x="8310" y="12030"/>
                </a:cubicBezTo>
                <a:cubicBezTo>
                  <a:pt x="8404" y="12222"/>
                  <a:pt x="8642" y="12109"/>
                  <a:pt x="8781" y="12080"/>
                </a:cubicBezTo>
              </a:path>
              <a:path w="1861" h="1787">
                <a:moveTo>
                  <a:pt x="7268" y="12750"/>
                </a:moveTo>
                <a:cubicBezTo>
                  <a:pt x="7237" y="12933"/>
                  <a:pt x="7223" y="13115"/>
                  <a:pt x="7193" y="13295"/>
                </a:cubicBezTo>
              </a:path>
              <a:path w="1861" h="1787">
                <a:moveTo>
                  <a:pt x="7739" y="12874"/>
                </a:moveTo>
                <a:lnTo>
                  <a:pt x="7739" y="12874"/>
                </a:lnTo>
              </a:path>
              <a:path w="1861" h="1787">
                <a:moveTo>
                  <a:pt x="7789" y="13072"/>
                </a:moveTo>
                <a:lnTo>
                  <a:pt x="7789" y="13072"/>
                </a:lnTo>
              </a:path>
              <a:path w="1861" h="1787">
                <a:moveTo>
                  <a:pt x="8483" y="12700"/>
                </a:moveTo>
                <a:cubicBezTo>
                  <a:pt x="8590" y="12682"/>
                  <a:pt x="8588" y="12669"/>
                  <a:pt x="8657" y="12750"/>
                </a:cubicBezTo>
                <a:cubicBezTo>
                  <a:pt x="8608" y="12912"/>
                  <a:pt x="8481" y="12963"/>
                  <a:pt x="8334" y="13047"/>
                </a:cubicBezTo>
                <a:cubicBezTo>
                  <a:pt x="8318" y="13055"/>
                  <a:pt x="8301" y="13064"/>
                  <a:pt x="8285" y="13072"/>
                </a:cubicBezTo>
                <a:cubicBezTo>
                  <a:pt x="8460" y="13097"/>
                  <a:pt x="8606" y="13084"/>
                  <a:pt x="8781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32160" y="4259160"/>
            <a:ext cx="965160" cy="1278000"/>
          </a:xfrm>
          <a:custGeom>
            <a:avLst/>
            <a:gdLst/>
            <a:ahLst/>
            <a:rect l="l" t="t" r="r" b="b"/>
            <a:pathLst>
              <a:path w="2680" h="3548">
                <a:moveTo>
                  <a:pt x="12725" y="11832"/>
                </a:moveTo>
                <a:cubicBezTo>
                  <a:pt x="12725" y="11985"/>
                  <a:pt x="12734" y="12126"/>
                  <a:pt x="12750" y="12278"/>
                </a:cubicBezTo>
              </a:path>
              <a:path w="2680" h="3548">
                <a:moveTo>
                  <a:pt x="13196" y="11857"/>
                </a:moveTo>
                <a:cubicBezTo>
                  <a:pt x="13114" y="11979"/>
                  <a:pt x="12903" y="12250"/>
                  <a:pt x="13171" y="12328"/>
                </a:cubicBezTo>
                <a:cubicBezTo>
                  <a:pt x="13341" y="12377"/>
                  <a:pt x="13523" y="12140"/>
                  <a:pt x="13469" y="11981"/>
                </a:cubicBezTo>
                <a:cubicBezTo>
                  <a:pt x="13444" y="11956"/>
                  <a:pt x="13420" y="11931"/>
                  <a:pt x="13395" y="11906"/>
                </a:cubicBezTo>
              </a:path>
              <a:path w="2680" h="3548">
                <a:moveTo>
                  <a:pt x="12353" y="12675"/>
                </a:moveTo>
                <a:cubicBezTo>
                  <a:pt x="12346" y="12807"/>
                  <a:pt x="12340" y="12917"/>
                  <a:pt x="12353" y="13047"/>
                </a:cubicBezTo>
              </a:path>
              <a:path w="2680" h="3548">
                <a:moveTo>
                  <a:pt x="12254" y="12898"/>
                </a:moveTo>
                <a:cubicBezTo>
                  <a:pt x="12402" y="12869"/>
                  <a:pt x="12468" y="12858"/>
                  <a:pt x="12576" y="12849"/>
                </a:cubicBezTo>
              </a:path>
              <a:path w="2680" h="3548">
                <a:moveTo>
                  <a:pt x="13146" y="12725"/>
                </a:moveTo>
                <a:cubicBezTo>
                  <a:pt x="13125" y="12768"/>
                  <a:pt x="13121" y="12780"/>
                  <a:pt x="13097" y="12799"/>
                </a:cubicBezTo>
                <a:cubicBezTo>
                  <a:pt x="13180" y="12829"/>
                  <a:pt x="13415" y="12837"/>
                  <a:pt x="13444" y="12948"/>
                </a:cubicBezTo>
                <a:cubicBezTo>
                  <a:pt x="13484" y="13098"/>
                  <a:pt x="13217" y="13168"/>
                  <a:pt x="13122" y="13146"/>
                </a:cubicBezTo>
                <a:cubicBezTo>
                  <a:pt x="13097" y="13130"/>
                  <a:pt x="13072" y="13113"/>
                  <a:pt x="13047" y="13097"/>
                </a:cubicBezTo>
              </a:path>
              <a:path w="2680" h="3548">
                <a:moveTo>
                  <a:pt x="13196" y="12750"/>
                </a:moveTo>
                <a:cubicBezTo>
                  <a:pt x="13331" y="12733"/>
                  <a:pt x="13456" y="12707"/>
                  <a:pt x="13593" y="12700"/>
                </a:cubicBezTo>
              </a:path>
              <a:path w="2680" h="3548">
                <a:moveTo>
                  <a:pt x="12402" y="13568"/>
                </a:moveTo>
                <a:cubicBezTo>
                  <a:pt x="12396" y="13675"/>
                  <a:pt x="12379" y="13761"/>
                  <a:pt x="12353" y="13866"/>
                </a:cubicBezTo>
              </a:path>
              <a:path w="2680" h="3548">
                <a:moveTo>
                  <a:pt x="12278" y="13742"/>
                </a:moveTo>
                <a:cubicBezTo>
                  <a:pt x="12386" y="13742"/>
                  <a:pt x="12427" y="13742"/>
                  <a:pt x="12502" y="13742"/>
                </a:cubicBezTo>
              </a:path>
              <a:path w="2680" h="3548">
                <a:moveTo>
                  <a:pt x="13246" y="13543"/>
                </a:moveTo>
                <a:cubicBezTo>
                  <a:pt x="13121" y="13543"/>
                  <a:pt x="13408" y="13490"/>
                  <a:pt x="13444" y="13494"/>
                </a:cubicBezTo>
                <a:cubicBezTo>
                  <a:pt x="13461" y="13502"/>
                  <a:pt x="13477" y="13511"/>
                  <a:pt x="13494" y="13519"/>
                </a:cubicBezTo>
                <a:cubicBezTo>
                  <a:pt x="13470" y="13614"/>
                  <a:pt x="13403" y="13742"/>
                  <a:pt x="13271" y="13742"/>
                </a:cubicBezTo>
                <a:cubicBezTo>
                  <a:pt x="13287" y="13734"/>
                  <a:pt x="13304" y="13725"/>
                  <a:pt x="13320" y="13717"/>
                </a:cubicBezTo>
                <a:cubicBezTo>
                  <a:pt x="13415" y="13750"/>
                  <a:pt x="13638" y="13847"/>
                  <a:pt x="13444" y="13965"/>
                </a:cubicBezTo>
                <a:cubicBezTo>
                  <a:pt x="13303" y="14051"/>
                  <a:pt x="13193" y="14012"/>
                  <a:pt x="13097" y="13915"/>
                </a:cubicBezTo>
              </a:path>
              <a:path w="2680" h="3548">
                <a:moveTo>
                  <a:pt x="11757" y="14188"/>
                </a:moveTo>
                <a:cubicBezTo>
                  <a:pt x="12089" y="14188"/>
                  <a:pt x="12418" y="14210"/>
                  <a:pt x="12750" y="14213"/>
                </a:cubicBezTo>
                <a:cubicBezTo>
                  <a:pt x="13029" y="14215"/>
                  <a:pt x="13321" y="14208"/>
                  <a:pt x="13593" y="14263"/>
                </a:cubicBezTo>
              </a:path>
              <a:path w="2680" h="3548">
                <a:moveTo>
                  <a:pt x="13370" y="14387"/>
                </a:moveTo>
                <a:cubicBezTo>
                  <a:pt x="13283" y="14430"/>
                  <a:pt x="13259" y="14437"/>
                  <a:pt x="13221" y="14486"/>
                </a:cubicBezTo>
                <a:cubicBezTo>
                  <a:pt x="13262" y="14650"/>
                  <a:pt x="13398" y="14733"/>
                  <a:pt x="13444" y="14908"/>
                </a:cubicBezTo>
                <a:cubicBezTo>
                  <a:pt x="13444" y="14924"/>
                  <a:pt x="13444" y="14941"/>
                  <a:pt x="13444" y="14957"/>
                </a:cubicBezTo>
                <a:cubicBezTo>
                  <a:pt x="13303" y="14983"/>
                  <a:pt x="13241" y="14922"/>
                  <a:pt x="13295" y="14759"/>
                </a:cubicBezTo>
                <a:cubicBezTo>
                  <a:pt x="13343" y="14615"/>
                  <a:pt x="13444" y="14519"/>
                  <a:pt x="13543" y="14412"/>
                </a:cubicBezTo>
              </a:path>
              <a:path w="2680" h="3548">
                <a:moveTo>
                  <a:pt x="11931" y="15007"/>
                </a:moveTo>
                <a:cubicBezTo>
                  <a:pt x="12089" y="15121"/>
                  <a:pt x="12246" y="15224"/>
                  <a:pt x="12452" y="15280"/>
                </a:cubicBezTo>
                <a:cubicBezTo>
                  <a:pt x="12821" y="15380"/>
                  <a:pt x="13168" y="15406"/>
                  <a:pt x="13543" y="15329"/>
                </a:cubicBezTo>
                <a:cubicBezTo>
                  <a:pt x="13828" y="15270"/>
                  <a:pt x="14256" y="15079"/>
                  <a:pt x="14412" y="14808"/>
                </a:cubicBezTo>
                <a:cubicBezTo>
                  <a:pt x="14520" y="14619"/>
                  <a:pt x="14296" y="14324"/>
                  <a:pt x="14163" y="14213"/>
                </a:cubicBezTo>
                <a:cubicBezTo>
                  <a:pt x="13944" y="14031"/>
                  <a:pt x="13644" y="13909"/>
                  <a:pt x="13370" y="13866"/>
                </a:cubicBezTo>
                <a:cubicBezTo>
                  <a:pt x="12940" y="13799"/>
                  <a:pt x="12613" y="13958"/>
                  <a:pt x="12278" y="14213"/>
                </a:cubicBezTo>
                <a:cubicBezTo>
                  <a:pt x="12047" y="14388"/>
                  <a:pt x="11481" y="14808"/>
                  <a:pt x="11931" y="15106"/>
                </a:cubicBezTo>
                <a:cubicBezTo>
                  <a:pt x="12039" y="15147"/>
                  <a:pt x="12146" y="15189"/>
                  <a:pt x="12254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8960" y="4894200"/>
            <a:ext cx="1546200" cy="384120"/>
          </a:xfrm>
          <a:custGeom>
            <a:avLst/>
            <a:gdLst/>
            <a:ahLst/>
            <a:rect l="l" t="t" r="r" b="b"/>
            <a:pathLst>
              <a:path w="4292" h="1068">
                <a:moveTo>
                  <a:pt x="4887" y="13643"/>
                </a:moveTo>
                <a:cubicBezTo>
                  <a:pt x="5015" y="13557"/>
                  <a:pt x="5067" y="13620"/>
                  <a:pt x="5209" y="13667"/>
                </a:cubicBezTo>
                <a:cubicBezTo>
                  <a:pt x="5359" y="13717"/>
                  <a:pt x="5352" y="13727"/>
                  <a:pt x="5383" y="13866"/>
                </a:cubicBezTo>
                <a:cubicBezTo>
                  <a:pt x="5405" y="13966"/>
                  <a:pt x="5433" y="14124"/>
                  <a:pt x="5482" y="14213"/>
                </a:cubicBezTo>
                <a:cubicBezTo>
                  <a:pt x="5545" y="14327"/>
                  <a:pt x="5685" y="14386"/>
                  <a:pt x="5804" y="14412"/>
                </a:cubicBezTo>
                <a:cubicBezTo>
                  <a:pt x="5988" y="14452"/>
                  <a:pt x="6186" y="14479"/>
                  <a:pt x="6375" y="14461"/>
                </a:cubicBezTo>
                <a:cubicBezTo>
                  <a:pt x="6515" y="14448"/>
                  <a:pt x="6667" y="14406"/>
                  <a:pt x="6796" y="14362"/>
                </a:cubicBezTo>
              </a:path>
              <a:path w="4292" h="1068">
                <a:moveTo>
                  <a:pt x="6573" y="14039"/>
                </a:moveTo>
                <a:cubicBezTo>
                  <a:pt x="6659" y="14075"/>
                  <a:pt x="6872" y="14126"/>
                  <a:pt x="6896" y="14238"/>
                </a:cubicBezTo>
                <a:cubicBezTo>
                  <a:pt x="6926" y="14378"/>
                  <a:pt x="6736" y="14514"/>
                  <a:pt x="6648" y="14610"/>
                </a:cubicBezTo>
              </a:path>
              <a:path w="4292" h="1068">
                <a:moveTo>
                  <a:pt x="7417" y="13965"/>
                </a:moveTo>
                <a:cubicBezTo>
                  <a:pt x="7274" y="13965"/>
                  <a:pt x="7229" y="13946"/>
                  <a:pt x="7144" y="14064"/>
                </a:cubicBezTo>
                <a:cubicBezTo>
                  <a:pt x="7085" y="14146"/>
                  <a:pt x="7057" y="14240"/>
                  <a:pt x="7045" y="14337"/>
                </a:cubicBezTo>
                <a:cubicBezTo>
                  <a:pt x="7129" y="14323"/>
                  <a:pt x="7231" y="14260"/>
                  <a:pt x="7317" y="14263"/>
                </a:cubicBezTo>
                <a:cubicBezTo>
                  <a:pt x="7433" y="14266"/>
                  <a:pt x="7558" y="14386"/>
                  <a:pt x="7516" y="14511"/>
                </a:cubicBezTo>
                <a:cubicBezTo>
                  <a:pt x="7459" y="14681"/>
                  <a:pt x="7227" y="14661"/>
                  <a:pt x="7094" y="14635"/>
                </a:cubicBezTo>
                <a:cubicBezTo>
                  <a:pt x="7069" y="14627"/>
                  <a:pt x="7045" y="14618"/>
                  <a:pt x="7020" y="14610"/>
                </a:cubicBezTo>
              </a:path>
              <a:path w="4292" h="1068">
                <a:moveTo>
                  <a:pt x="7888" y="14064"/>
                </a:moveTo>
                <a:lnTo>
                  <a:pt x="7888" y="14064"/>
                </a:lnTo>
              </a:path>
              <a:path w="4292" h="1068">
                <a:moveTo>
                  <a:pt x="7863" y="14387"/>
                </a:moveTo>
                <a:lnTo>
                  <a:pt x="7863" y="14387"/>
                </a:lnTo>
              </a:path>
              <a:path w="4292" h="1068">
                <a:moveTo>
                  <a:pt x="8533" y="14015"/>
                </a:moveTo>
                <a:cubicBezTo>
                  <a:pt x="8524" y="14210"/>
                  <a:pt x="8485" y="14393"/>
                  <a:pt x="8458" y="14585"/>
                </a:cubicBezTo>
                <a:cubicBezTo>
                  <a:pt x="8458" y="14602"/>
                  <a:pt x="8458" y="14618"/>
                  <a:pt x="8458" y="14635"/>
                </a:cubicBezTo>
              </a:path>
              <a:path w="4292" h="1068">
                <a:moveTo>
                  <a:pt x="8855" y="14064"/>
                </a:moveTo>
                <a:cubicBezTo>
                  <a:pt x="8800" y="14195"/>
                  <a:pt x="8670" y="14410"/>
                  <a:pt x="8806" y="14536"/>
                </a:cubicBezTo>
                <a:cubicBezTo>
                  <a:pt x="8947" y="14666"/>
                  <a:pt x="9154" y="14450"/>
                  <a:pt x="9178" y="14312"/>
                </a:cubicBezTo>
                <a:cubicBezTo>
                  <a:pt x="9204" y="14164"/>
                  <a:pt x="9075" y="14121"/>
                  <a:pt x="8979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81360" y="5197320"/>
            <a:ext cx="1764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12750" y="14436"/>
                </a:moveTo>
                <a:cubicBezTo>
                  <a:pt x="12773" y="14658"/>
                  <a:pt x="12771" y="14837"/>
                  <a:pt x="12725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46080" y="4187880"/>
            <a:ext cx="206280" cy="295200"/>
          </a:xfrm>
          <a:custGeom>
            <a:avLst/>
            <a:gdLst/>
            <a:ahLst/>
            <a:rect l="l" t="t" r="r" b="b"/>
            <a:pathLst>
              <a:path w="572" h="820">
                <a:moveTo>
                  <a:pt x="2803" y="11782"/>
                </a:moveTo>
                <a:cubicBezTo>
                  <a:pt x="2772" y="11723"/>
                  <a:pt x="2702" y="12120"/>
                  <a:pt x="2679" y="12229"/>
                </a:cubicBezTo>
                <a:cubicBezTo>
                  <a:pt x="2676" y="12242"/>
                  <a:pt x="2571" y="12528"/>
                  <a:pt x="2654" y="12402"/>
                </a:cubicBezTo>
                <a:cubicBezTo>
                  <a:pt x="2702" y="12265"/>
                  <a:pt x="2743" y="12136"/>
                  <a:pt x="2803" y="12005"/>
                </a:cubicBezTo>
                <a:cubicBezTo>
                  <a:pt x="2840" y="11925"/>
                  <a:pt x="2844" y="11774"/>
                  <a:pt x="2902" y="11708"/>
                </a:cubicBezTo>
                <a:cubicBezTo>
                  <a:pt x="2935" y="11683"/>
                  <a:pt x="2968" y="11658"/>
                  <a:pt x="3001" y="11633"/>
                </a:cubicBezTo>
                <a:cubicBezTo>
                  <a:pt x="3172" y="11676"/>
                  <a:pt x="3184" y="11871"/>
                  <a:pt x="3200" y="12030"/>
                </a:cubicBezTo>
                <a:cubicBezTo>
                  <a:pt x="3211" y="12141"/>
                  <a:pt x="3203" y="12250"/>
                  <a:pt x="3175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00080" y="4348080"/>
            <a:ext cx="142920" cy="460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2778" y="12204"/>
                </a:moveTo>
                <a:cubicBezTo>
                  <a:pt x="2900" y="12143"/>
                  <a:pt x="3039" y="12115"/>
                  <a:pt x="3175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6200" y="4276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547" y="11881"/>
                </a:moveTo>
                <a:lnTo>
                  <a:pt x="3547" y="118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76200" y="4394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547" y="12204"/>
                </a:moveTo>
                <a:lnTo>
                  <a:pt x="3547" y="122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6120" y="4152960"/>
            <a:ext cx="196920" cy="2412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4018" y="11708"/>
                </a:moveTo>
                <a:cubicBezTo>
                  <a:pt x="4027" y="11841"/>
                  <a:pt x="4043" y="11970"/>
                  <a:pt x="4043" y="12105"/>
                </a:cubicBezTo>
                <a:cubicBezTo>
                  <a:pt x="4061" y="11944"/>
                  <a:pt x="4096" y="11770"/>
                  <a:pt x="4192" y="11633"/>
                </a:cubicBezTo>
                <a:cubicBezTo>
                  <a:pt x="4278" y="11510"/>
                  <a:pt x="4304" y="11522"/>
                  <a:pt x="4415" y="11559"/>
                </a:cubicBezTo>
                <a:cubicBezTo>
                  <a:pt x="4424" y="11694"/>
                  <a:pt x="4408" y="11722"/>
                  <a:pt x="4316" y="11832"/>
                </a:cubicBezTo>
                <a:cubicBezTo>
                  <a:pt x="4395" y="11843"/>
                  <a:pt x="4669" y="11895"/>
                  <a:pt x="4564" y="12055"/>
                </a:cubicBezTo>
                <a:cubicBezTo>
                  <a:pt x="4451" y="12227"/>
                  <a:pt x="4245" y="12220"/>
                  <a:pt x="409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2800" y="4562640"/>
            <a:ext cx="17928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2853" y="12725"/>
                </a:moveTo>
                <a:cubicBezTo>
                  <a:pt x="3015" y="12671"/>
                  <a:pt x="3104" y="12637"/>
                  <a:pt x="3225" y="12774"/>
                </a:cubicBezTo>
                <a:cubicBezTo>
                  <a:pt x="3127" y="12879"/>
                  <a:pt x="3056" y="12930"/>
                  <a:pt x="2927" y="12998"/>
                </a:cubicBezTo>
                <a:cubicBezTo>
                  <a:pt x="3048" y="13026"/>
                  <a:pt x="3196" y="13108"/>
                  <a:pt x="3076" y="13271"/>
                </a:cubicBezTo>
                <a:cubicBezTo>
                  <a:pt x="2962" y="13426"/>
                  <a:pt x="2822" y="13455"/>
                  <a:pt x="2729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0840" y="4626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671" y="12849"/>
                </a:moveTo>
                <a:lnTo>
                  <a:pt x="3671" y="1284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0200" y="4724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96" y="13122"/>
                </a:moveTo>
                <a:lnTo>
                  <a:pt x="3696" y="131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90760" y="4626000"/>
            <a:ext cx="13500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4242" y="12849"/>
                </a:moveTo>
                <a:cubicBezTo>
                  <a:pt x="4184" y="12907"/>
                  <a:pt x="4175" y="12915"/>
                  <a:pt x="4142" y="12948"/>
                </a:cubicBezTo>
                <a:cubicBezTo>
                  <a:pt x="4223" y="12972"/>
                  <a:pt x="4491" y="13016"/>
                  <a:pt x="4514" y="13122"/>
                </a:cubicBezTo>
                <a:cubicBezTo>
                  <a:pt x="4539" y="13237"/>
                  <a:pt x="4405" y="13268"/>
                  <a:pt x="4341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1120" y="4606920"/>
            <a:ext cx="115920" cy="190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4390" y="12849"/>
                </a:moveTo>
                <a:cubicBezTo>
                  <a:pt x="4547" y="12823"/>
                  <a:pt x="4605" y="12813"/>
                  <a:pt x="4713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Homework: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nit 2 Review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2:30:59Z</dcterms:created>
  <dc:creator>Brian McGrath</dc:creator>
  <dc:description/>
  <dc:language>en-US</dc:language>
  <cp:lastModifiedBy>deanne elizabeth mcgrath</cp:lastModifiedBy>
  <dcterms:modified xsi:type="dcterms:W3CDTF">2010-10-26T19:02:49Z</dcterms:modified>
  <cp:revision>4</cp:revision>
  <dc:subject/>
  <dc:title>PowerPoint Presentation</dc:title>
</cp:coreProperties>
</file>